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651-2EF1-408E-9936-E995A8F7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AE2-8D53-47BC-82B7-0EF2B3B4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592-4C86-4BB2-9963-4DBE8596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156-4F7E-4988-9697-4371FAD2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8AF-513F-4D05-ACC5-7EC312C7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DA4-8D98-4C3A-A286-A026D98C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BB4-1C5C-44DD-9836-19ECCB30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2D13-BFA3-42D1-AE1A-CBAC7F07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BC3-E82A-4CAE-A9B5-F303DFDA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CA2-A222-40D0-86C9-89DDFD5B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D0D-FA52-4294-9F45-F7B647E3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7DD-A5BE-4E0B-AD2F-980B6731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6AC18-36A9-46A7-8CE7-FE5D9A4758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25B39-E16F-4330-9C4A-4A7564EBA93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5:21:05Z</dcterms:created>
  <dc:creator>최봉수</dc:creator>
  <dc:description/>
  <dc:language>en-US</dc:language>
  <cp:lastModifiedBy>맛있다 군만두</cp:lastModifiedBy>
  <dcterms:modified xsi:type="dcterms:W3CDTF">2024-09-24T08:23:03Z</dcterms:modified>
  <cp:revision>4</cp:revision>
  <dc:subject/>
  <dc:title>슬라이드 1</dc:title>
</cp:coreProperties>
</file>