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A4F-1DE6-4282-B002-015EF643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ADA-B7C8-482F-BE6A-5F2CF9C6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FA7-B174-4F9C-B7A9-E57295FD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CA8-4ED0-4E48-8CE4-0A63DC3C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7DE-EDA2-4B47-A97B-2B3DEB77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3C7-82B8-45D4-8968-58E925A2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49B-D5DF-4AED-A6AB-C4D5D6A0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82A-5365-4964-98C6-4E5776F4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0E3-E733-421A-9608-20F5448D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74D-AA67-43EB-AC5F-F4A4D20A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A84-2B56-43B7-B9E6-60AFABB9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6BD-4B13-4612-B068-4A2EB907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DB7C9-9105-4675-94F2-D187A0B304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C5A1A-9A06-48C3-83DC-8514E0E65F2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5:21:05Z</dcterms:created>
  <dc:creator>최봉수</dc:creator>
  <dc:description/>
  <dc:language>en-US</dc:language>
  <cp:lastModifiedBy>맛있다 군만두</cp:lastModifiedBy>
  <dcterms:modified xsi:type="dcterms:W3CDTF">2024-09-24T08:23:03Z</dcterms:modified>
  <cp:revision>4</cp:revision>
  <dc:subject/>
  <dc:title>슬라이드 1</dc:title>
</cp:coreProperties>
</file>