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EA795-AD15-4F16-9E03-0BBD64F4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A4DE2-55AE-4970-A105-CB6E3CA2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88D74-2D71-42FE-A35D-58073B2BC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C782A-2FC7-41C6-AA0E-694D6E5E1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F611F-0D78-4B6C-851A-A1EADE774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0BC23-FAD7-40D1-A495-E983F831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87E5-4F78-4BDA-9AA8-737BB954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29511-D811-443F-B723-417BCA4B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320E-A31A-41CF-9903-57639614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DD90E-7452-48B2-B26C-C5391E777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8A69-03A5-43A8-9AE6-0FEAE95F2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AE8D-670D-4EE9-B56C-DF879C015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D3E9-F556-4477-AF50-4E0EFC0EB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vaccination-info.be/vaccination/maladies/typhoide.html##" TargetMode="External"/><Relationship Id="rId2" Type="http://schemas.openxmlformats.org/officeDocument/2006/relationships/hyperlink" Target="http://vaccination-info.be/vaccination/maladies/typhoide.html##" TargetMode="External"/><Relationship Id="rId3" Type="http://schemas.openxmlformats.org/officeDocument/2006/relationships/hyperlink" Target="http://vaccination-info.be/vaccination/maladies/typhoide.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ADIES     A TRANSMISSION HYDRIQUE</a:t>
            </a:r>
            <a:endParaRPr b="0" lang="en-US" sz="4400" spc="-1" strike="noStrike">
              <a:solidFill>
                <a:srgbClr val="000000"/>
              </a:solidFill>
              <a:latin typeface="Arial"/>
            </a:endParaRPr>
          </a:p>
        </p:txBody>
      </p:sp>
      <p:sp>
        <p:nvSpPr>
          <p:cNvPr id="42" name="PlaceHolder 2"/>
          <p:cNvSpPr>
            <a:spLocks noGrp="1"/>
          </p:cNvSpPr>
          <p:nvPr>
            <p:ph type="subTitle"/>
          </p:nvPr>
        </p:nvSpPr>
        <p:spPr>
          <a:xfrm>
            <a:off x="3809880" y="4267080"/>
            <a:ext cx="50292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 KAIDI.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2282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ff3300"/>
                </a:solidFill>
                <a:uFillTx/>
                <a:latin typeface="Arial"/>
              </a:rPr>
              <a:t>Des chiffres à travers le monde</a:t>
            </a:r>
            <a:r>
              <a:rPr b="0" lang="en-US" sz="3200" spc="-1" strike="noStrike">
                <a:solidFill>
                  <a:srgbClr val="ff33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TH : première cause de mortalité et de maladie au monde. Ainsi dans les pays en voie de développement 80% des maladies sont dues à l’eau (1 africain sur 2 souffre d’une maladie hydri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on l’OMS, chaque anné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millions de personnes meurent des suites d’une épidémie ou d’une contagion due à la pollution des eau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illions de personnes, dont la plupart des enfants, meurent de maladies diarrhéiq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us de 20 maladies sont liées  à la qualité de l’eau, les plus meurtrières sont le paludisme, la diarrhée (4% de la mortalité mondiale), l’amibiase, le choléra.. Il faut signaler l’émergence de  nouvelles maladies liées à l’eau (SRAS:L'épidémie survenue dans un groupe d'immeubles (Amoy Gardens) à Hong Kong, où 66% des malades étaient atteints de diarrhées contre 2 à 7% habituellement, a soulevé la possibilité d'une transmission locale par le système d'évacuation des égou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609480"/>
            <a:ext cx="8686800" cy="551664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Des chiffres à travers l’Algér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 saisonnières et sporadiques jadis, 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TH, en Algérie, sont devenues endémiques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kikda, Batna, Tiaret, Tlemc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8800" spc="-1" strike="noStrike">
                <a:solidFill>
                  <a:srgbClr val="ff3300"/>
                </a:solidFill>
                <a:latin typeface="Arial"/>
              </a:rPr>
              <a:t>PATHOLOGI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A FIEVRE TYPHOI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066680"/>
            <a:ext cx="8229600" cy="838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t une infection grave accompagnée de forte fièvre.</a:t>
            </a:r>
            <a:r>
              <a:rPr b="1" lang="fr-FR" sz="2800" spc="-1" strike="noStrike">
                <a:solidFill>
                  <a:srgbClr val="000000"/>
                </a:solidFill>
                <a:latin typeface="Arial"/>
              </a:rPr>
              <a:t>Qu’est-ce qui cause la maladie ?</a:t>
            </a:r>
            <a:r>
              <a:rPr b="0" lang="fr-FR" sz="2800" spc="-1" strike="noStrike">
                <a:solidFill>
                  <a:srgbClr val="000000"/>
                </a:solidFill>
                <a:latin typeface="Arial"/>
              </a:rPr>
              <a:t>Une bactérie </a:t>
            </a:r>
            <a:r>
              <a:rPr b="0" i="1" lang="fr-FR" sz="2800" spc="-1" strike="noStrike">
                <a:solidFill>
                  <a:srgbClr val="000000"/>
                </a:solidFill>
                <a:latin typeface="Arial"/>
              </a:rPr>
              <a:t>(Salmonella typhi)</a:t>
            </a:r>
            <a:r>
              <a:rPr b="0" lang="fr-FR" sz="2800" spc="-1" strike="noStrike">
                <a:solidFill>
                  <a:srgbClr val="000000"/>
                </a:solidFill>
                <a:latin typeface="Arial"/>
              </a:rPr>
              <a:t>.</a:t>
            </a:r>
            <a:r>
              <a:rPr b="1" lang="fr-FR" sz="2800" spc="-1" strike="noStrike">
                <a:solidFill>
                  <a:srgbClr val="000000"/>
                </a:solidFill>
                <a:latin typeface="Arial"/>
              </a:rPr>
              <a:t>Est-elle contagieuse ?</a:t>
            </a:r>
            <a:r>
              <a:rPr b="0" lang="fr-FR" sz="2800" spc="-1" strike="noStrike">
                <a:solidFill>
                  <a:srgbClr val="000000"/>
                </a:solidFill>
                <a:latin typeface="Arial"/>
              </a:rPr>
              <a:t>Oui.</a:t>
            </a:r>
            <a:r>
              <a:rPr b="1" lang="fr-FR" sz="2800" spc="-1" strike="noStrike">
                <a:solidFill>
                  <a:srgbClr val="000000"/>
                </a:solidFill>
                <a:latin typeface="Arial"/>
              </a:rPr>
              <a:t>Comment se transmet-elle ?</a:t>
            </a:r>
            <a:r>
              <a:rPr b="0" lang="fr-FR" sz="2800" spc="-1" strike="noStrike">
                <a:solidFill>
                  <a:srgbClr val="000000"/>
                </a:solidFill>
                <a:latin typeface="Arial"/>
              </a:rPr>
              <a:t>Par contact féco-oral, soit indirectement par l’ingestion de nourriture ou d’eau contaminées.</a:t>
            </a:r>
            <a:r>
              <a:rPr b="1" lang="fr-FR" sz="2800" spc="-1" strike="noStrike">
                <a:solidFill>
                  <a:srgbClr val="000000"/>
                </a:solidFill>
                <a:latin typeface="Arial"/>
              </a:rPr>
              <a:t>Quelles sont les complications?</a:t>
            </a:r>
            <a:r>
              <a:rPr b="0" lang="fr-FR" sz="2800" spc="-1" strike="noStrike">
                <a:solidFill>
                  <a:srgbClr val="000000"/>
                </a:solidFill>
                <a:latin typeface="Arial"/>
              </a:rPr>
              <a:t>Hémorragies intestinales, perforation intestinale, </a:t>
            </a:r>
            <a:r>
              <a:rPr b="0" lang="fr-FR" sz="2800" spc="-1" strike="noStrike" u="sng">
                <a:solidFill>
                  <a:srgbClr val="009999"/>
                </a:solidFill>
                <a:uFillTx/>
                <a:latin typeface="Arial"/>
                <a:hlinkClick r:id="rId1"/>
              </a:rPr>
              <a:t>ostéomyélite</a:t>
            </a:r>
            <a:r>
              <a:rPr b="0" lang="fr-FR" sz="2800" spc="-1" strike="noStrike">
                <a:solidFill>
                  <a:srgbClr val="000000"/>
                </a:solidFill>
                <a:latin typeface="Arial"/>
              </a:rPr>
              <a:t>, </a:t>
            </a:r>
            <a:r>
              <a:rPr b="0" lang="fr-FR" sz="2800" spc="-1" strike="noStrike" u="sng">
                <a:solidFill>
                  <a:srgbClr val="009999"/>
                </a:solidFill>
                <a:uFillTx/>
                <a:latin typeface="Arial"/>
                <a:hlinkClick r:id="rId2"/>
              </a:rPr>
              <a:t>arthrite</a:t>
            </a:r>
            <a:r>
              <a:rPr b="0" lang="fr-FR" sz="2800" spc="-1" strike="noStrike">
                <a:solidFill>
                  <a:srgbClr val="000000"/>
                </a:solidFill>
                <a:latin typeface="Arial"/>
              </a:rPr>
              <a:t>, </a:t>
            </a:r>
            <a:r>
              <a:rPr b="0" lang="fr-FR" sz="2800" spc="-1" strike="noStrike" u="sng">
                <a:solidFill>
                  <a:srgbClr val="009999"/>
                </a:solidFill>
                <a:uFillTx/>
                <a:latin typeface="Arial"/>
                <a:hlinkClick r:id="rId3"/>
              </a:rPr>
              <a:t>méningo-encéphalite</a:t>
            </a:r>
            <a:r>
              <a:rPr b="0" lang="fr-FR" sz="2800" spc="-1" strike="noStrike">
                <a:solidFill>
                  <a:srgbClr val="000000"/>
                </a:solidFill>
                <a:latin typeface="Arial"/>
              </a:rPr>
              <a:t>, abcès dans d’autres organes (poumon, foi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la traiter ?</a:t>
            </a:r>
            <a:r>
              <a:rPr b="0" lang="fr-FR" sz="2800" spc="-1" strike="noStrike">
                <a:solidFill>
                  <a:srgbClr val="000000"/>
                </a:solidFill>
                <a:latin typeface="Arial"/>
              </a:rPr>
              <a:t>Antibiothérapie.</a:t>
            </a:r>
            <a:r>
              <a:rPr b="1" lang="fr-FR" sz="2800" spc="-1" strike="noStrike">
                <a:solidFill>
                  <a:srgbClr val="000000"/>
                </a:solidFill>
                <a:latin typeface="Arial"/>
              </a:rPr>
              <a:t>Que faire en cas de contact avec une personne infecté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solement du malade.Hygiène générale (mai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esures de prév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esures d’hygiène générales, (bouillez-le, cuisez-le, pelez-le ou abstenez-vous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ccination </a:t>
            </a:r>
            <a:r>
              <a:rPr b="1" lang="fr-FR" sz="2800" spc="-1" strike="noStrike">
                <a:solidFill>
                  <a:srgbClr val="000000"/>
                </a:solidFill>
                <a:latin typeface="Arial"/>
              </a:rPr>
              <a:t>Vaccin(s) </a:t>
            </a:r>
            <a:r>
              <a:rPr b="0" lang="fr-FR" sz="2800" spc="-1" strike="noStrike" u="sng">
                <a:solidFill>
                  <a:srgbClr val="000000"/>
                </a:solidFill>
                <a:uFillTx/>
                <a:latin typeface="Arial"/>
              </a:rPr>
              <a:t>Vaccin oral contre la fièvre typhoïde :</a:t>
            </a:r>
            <a:br>
              <a:rPr sz="2800"/>
            </a:br>
            <a:r>
              <a:rPr b="0" lang="fr-FR" sz="2800" spc="-1" strike="noStrike">
                <a:solidFill>
                  <a:srgbClr val="000000"/>
                </a:solidFill>
                <a:latin typeface="Arial"/>
              </a:rPr>
              <a:t>- Vivotif® (Qualifar) </a:t>
            </a:r>
            <a:r>
              <a:rPr b="0" lang="fr-FR" sz="2800" spc="-1" strike="noStrike" u="sng">
                <a:solidFill>
                  <a:srgbClr val="000000"/>
                </a:solidFill>
                <a:uFillTx/>
                <a:latin typeface="Arial"/>
              </a:rPr>
              <a:t>Vaccins injectables contre la fièvre typhoïde :</a:t>
            </a:r>
            <a:br>
              <a:rPr sz="2800"/>
            </a:br>
            <a:r>
              <a:rPr b="0" lang="fr-FR" sz="2800" spc="-1" strike="noStrike">
                <a:solidFill>
                  <a:srgbClr val="000000"/>
                </a:solidFill>
                <a:latin typeface="Arial"/>
              </a:rPr>
              <a:t>- Typherix® (G.S.K.)</a:t>
            </a:r>
            <a:br>
              <a:rPr sz="2800"/>
            </a:br>
            <a:r>
              <a:rPr b="0" lang="fr-FR" sz="2800" spc="-1" strike="noStrike">
                <a:solidFill>
                  <a:srgbClr val="000000"/>
                </a:solidFill>
                <a:latin typeface="Arial"/>
              </a:rPr>
              <a:t>- Typhim Vi® (Sanofi Pasteur M.S.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HEPATITE  A :</a:t>
            </a:r>
            <a:endParaRPr b="0" lang="en-US" sz="4400" spc="-1" strike="noStrike">
              <a:solidFill>
                <a:srgbClr val="000000"/>
              </a:solidFill>
              <a:latin typeface="Arial"/>
            </a:endParaRPr>
          </a:p>
        </p:txBody>
      </p:sp>
      <p:sp>
        <p:nvSpPr>
          <p:cNvPr id="6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adie infectieuse du foie causée par un virus (VH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ômes: fièvre, fatigue,  perte d'appétit,  nausées, </a:t>
            </a:r>
            <a:r>
              <a:rPr b="1" lang="en-US" sz="2800" spc="-1" strike="noStrike">
                <a:solidFill>
                  <a:srgbClr val="ff3300"/>
                </a:solidFill>
                <a:latin typeface="Arial"/>
              </a:rPr>
              <a:t>jauniss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virus se transmet plus facilement lorsque les conditions sanitaires et l'hygiène personnelle laissent à désir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st en absorbant de l’eau ou une substance contaminée par les matières fécales d'une personne infectée que l'on contracte la malad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CHOLERA</a:t>
            </a:r>
            <a:endParaRPr b="0" lang="en-US" sz="4400" spc="-1" strike="noStrike">
              <a:solidFill>
                <a:srgbClr val="000000"/>
              </a:solidFill>
              <a:latin typeface="Arial"/>
            </a:endParaRPr>
          </a:p>
        </p:txBody>
      </p:sp>
      <p:sp>
        <p:nvSpPr>
          <p:cNvPr id="6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volue par épidé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 par l’eau et par contact interhum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rhée ++ et signes de déshydra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s traitement rapide peut entrainer la m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DYSENTERI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higella– E.coli—Amibiase intestin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tamination par ingestion d’</a:t>
            </a:r>
            <a:r>
              <a:rPr b="1" lang="fr-FR" sz="3200" spc="-1" strike="noStrike" u="sng">
                <a:solidFill>
                  <a:srgbClr val="ff3300"/>
                </a:solidFill>
                <a:uFillTx/>
                <a:latin typeface="Arial"/>
              </a:rPr>
              <a:t>eau</a:t>
            </a:r>
            <a:r>
              <a:rPr b="0" lang="fr-FR" sz="3200" spc="-1" strike="noStrike">
                <a:solidFill>
                  <a:srgbClr val="000000"/>
                </a:solidFill>
                <a:latin typeface="Arial"/>
              </a:rPr>
              <a:t> ou d’aliments souillé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elles glairo-sanglantes, douleurs abdominales et fiév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BILHARZIOSE</a:t>
            </a:r>
            <a:endParaRPr b="0" lang="en-US" sz="4400" spc="-1" strike="noStrike">
              <a:solidFill>
                <a:srgbClr val="000000"/>
              </a:solidFill>
              <a:latin typeface="Arial"/>
            </a:endParaRPr>
          </a:p>
        </p:txBody>
      </p:sp>
      <p:sp>
        <p:nvSpPr>
          <p:cNvPr id="72"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 des maladies plutôt rur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ent plusieurs centaines de sujets dans le mon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bilharzies ou schistosomes sont des parasites (vers plats) dont 5 sont pathogènes chez l’homme. La contamination se fait lors du contact de la peau avec des eaux douces infecté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 exposées: baigneurs en eau douce,femmes (lessives),cultivateurs(terres inondées ou irrigué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nature, l’eau n’est pas toujours source de vie, loin s’en faut. Elle véhicule en particulier nombre de micro-organismes, bactéries, virus en tout genre, qui y vivent et s’y développent, ainsi que nombre de parasites dont les hôtes ont besoin d’eau pour vivre ou se reproduire. Or de tels organismes peuvent engendrer des maladies parfois graves lorsqu’ils pénètrent dans le corps humain. L’eau est ainsi le vecteur de transmission privilégié de ces maladies que l’on dit hydrique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aîne des séquelles urogénitales (sténoses urétérales) des manifestations digestives voire des manifestations hépatospléniq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T antiparasitaire et chirurgi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ophylaxie de la BILHARZIOSE</a:t>
            </a:r>
            <a:r>
              <a:rPr b="1" lang="en-US" sz="5400" spc="-1" strike="noStrike">
                <a:solidFill>
                  <a:srgbClr val="ff3300"/>
                </a:solidFill>
                <a:latin typeface="Arial"/>
              </a:rPr>
              <a:t> </a:t>
            </a:r>
            <a:endParaRPr b="0"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hylaxie individuelle: informer la population sur le danger des loisirs et baignades en eau douce (pas de chimioprophylaxie contre l’inf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hylaxie collective: hygiène du milieu, assainissement et destruction des mollusques hôtes intermédi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A   LEPTOSPIROSE</a:t>
            </a:r>
            <a:endParaRPr b="0" lang="en-US" sz="4400" spc="-1" strike="noStrike">
              <a:solidFill>
                <a:srgbClr val="000000"/>
              </a:solidFill>
              <a:latin typeface="Arial"/>
            </a:endParaRPr>
          </a:p>
        </p:txBody>
      </p:sp>
      <p:sp>
        <p:nvSpPr>
          <p:cNvPr id="77"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eptospires sont des bactéries qui infectent des rongeurs comme les rats, des chiens et des animaux d'élevage comme les porcs. Les animaux infectés éliminent les leptospires dans leurs urines, et souillent ainsi le milieu extérieu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êtres humains sont ensuite facilement contaminés.... Le contact avec un animal infecté n'est pas nécessaire : Une baignade en eau douce, une partie de pêche ou de canotage peut nous infecter. Les leptospires, présentes dans l’eau à la suite de déjections d’animaux contaminés, pénètrent dans l’organisme par des plaies, des érosions cutanées ou muqueuses, par la conjonctive, ou par inhalation de gouttelet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u="sng">
                <a:solidFill>
                  <a:srgbClr val="ff3300"/>
                </a:solidFill>
                <a:uFillTx/>
                <a:latin typeface="Arial"/>
              </a:rPr>
              <a:t>Le Paludism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u="sng">
                <a:solidFill>
                  <a:srgbClr val="000000"/>
                </a:solidFill>
                <a:uFillTx/>
                <a:latin typeface="Arial"/>
              </a:rPr>
              <a:t>Transmission par le moustique</a:t>
            </a:r>
            <a:r>
              <a:rPr b="0" lang="fr-MC" sz="2800" spc="-1" strike="noStrike">
                <a:solidFill>
                  <a:srgbClr val="000000"/>
                </a:solidFill>
                <a:latin typeface="Arial"/>
              </a:rPr>
              <a:t> :  Le moustique pique et aspire le sang d’un individu infecté, il ingère ainsi des gamétocytes mâles et femelles qui mûrissent dans l’estomac de l’insecte.  L’oocyste qui résulte de la fécondation traverse la paroi gastrique et dissémine les sporozoïtes dans la cavité générale.  Ces sporozoïtes gagnent les glandes salivaires du moustique dont la piqûre devient virulente pour l’homme.  C’est le cycle sexué.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3520" y="228600"/>
            <a:ext cx="822960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3200" spc="-1" strike="noStrike" u="sng">
                <a:solidFill>
                  <a:srgbClr val="000000"/>
                </a:solidFill>
                <a:uFillTx/>
                <a:latin typeface="Arial"/>
              </a:rPr>
              <a:t>Les conditions favorables à la propagation de la maladie</a:t>
            </a:r>
            <a:r>
              <a:rPr b="0" lang="fr-MC"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3200" spc="-1" strike="noStrike">
                <a:solidFill>
                  <a:srgbClr val="000000"/>
                </a:solidFill>
                <a:latin typeface="Arial"/>
              </a:rPr>
              <a:t>Il faut d’abord des </a:t>
            </a:r>
            <a:r>
              <a:rPr b="1" lang="fr-MC" sz="3200" spc="-1" strike="noStrike">
                <a:solidFill>
                  <a:srgbClr val="ff3300"/>
                </a:solidFill>
                <a:latin typeface="Arial"/>
              </a:rPr>
              <a:t>sujets humains</a:t>
            </a:r>
            <a:r>
              <a:rPr b="0" lang="fr-MC" sz="3200" spc="-1" strike="noStrike">
                <a:solidFill>
                  <a:srgbClr val="000000"/>
                </a:solidFill>
                <a:latin typeface="Arial"/>
              </a:rPr>
              <a:t> atteints par cette maladie puisque l’homme est le seul réservoir des plasmodes du paludisme.  Il faut bien entendu un insecte vecteur soit </a:t>
            </a:r>
            <a:r>
              <a:rPr b="1" lang="fr-MC" sz="3200" spc="-1" strike="noStrike">
                <a:solidFill>
                  <a:srgbClr val="ff3300"/>
                </a:solidFill>
                <a:latin typeface="Arial"/>
              </a:rPr>
              <a:t>l’anophèle</a:t>
            </a:r>
            <a:r>
              <a:rPr b="0" lang="fr-MC" sz="3200" spc="-1" strike="noStrike">
                <a:solidFill>
                  <a:srgbClr val="000000"/>
                </a:solidFill>
                <a:latin typeface="Arial"/>
              </a:rPr>
              <a:t> (moustique femelle) auquel il faut une température égale ou supérieure à 15°C et qui a besoin de </a:t>
            </a:r>
            <a:r>
              <a:rPr b="1" lang="fr-MC" sz="3200" spc="-1" strike="noStrike">
                <a:solidFill>
                  <a:srgbClr val="ff3300"/>
                </a:solidFill>
                <a:latin typeface="Arial"/>
              </a:rPr>
              <a:t>points d’eau douce et stagnante</a:t>
            </a:r>
            <a:r>
              <a:rPr b="0" lang="fr-MC" sz="3200" spc="-1" strike="noStrike">
                <a:solidFill>
                  <a:srgbClr val="000000"/>
                </a:solidFill>
                <a:latin typeface="Arial"/>
              </a:rPr>
              <a:t> pour que ses larves se développ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800" spc="-1" strike="noStrike" u="sng">
                <a:solidFill>
                  <a:srgbClr val="000000"/>
                </a:solidFill>
                <a:uFillTx/>
                <a:latin typeface="Arial"/>
              </a:rPr>
              <a:t>Mesures de prévention</a:t>
            </a:r>
            <a:r>
              <a:rPr b="0" lang="fr-MC" sz="2800" spc="-1" strike="noStrike">
                <a:solidFill>
                  <a:srgbClr val="000000"/>
                </a:solidFill>
                <a:latin typeface="Arial"/>
              </a:rPr>
              <a:t>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Dans les région endémiques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Dès la tombée du jour, porter des vêtements longs et appliquer sur les parties découvertes des insectifuges.  Éviter les promenades après le coucher du solei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Vaporiser un insecticide dans les chambres à coucher et dormir sous un moustiquai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Pour les personnes se rendant fréquemment dans ces régions, il est recommandé d’avoir sur elles des « médicaments de réserve* » en cas d’accès fébrile ou d’impossibilité de trouver une assistance médicale immédiate.  La plupart des décès chez les personnes ayant fait un court séjour dans une région endémique se produisent après leur retour et sont souvent du a un diagnostic tardif ou inexac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684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ea typeface="Gulim"/>
              </a:rPr>
              <a:t> </a:t>
            </a:r>
            <a:r>
              <a:rPr b="1" lang="fr-FR" sz="4000" spc="-1" strike="noStrike">
                <a:solidFill>
                  <a:srgbClr val="ff3300"/>
                </a:solidFill>
                <a:latin typeface="Arial"/>
                <a:ea typeface="Gulim"/>
              </a:rPr>
              <a:t>Principaux facteurs à l’origine des maladies a transmission hydrique</a:t>
            </a:r>
            <a:br>
              <a:rPr sz="4000"/>
            </a:b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533520" y="233172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              </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cross –connex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inondation des vides sanitai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infiltration des eaux usées de surface  lors des lessivages dus aux plu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80880" y="457200"/>
            <a:ext cx="8229600" cy="541008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a non conformité des réseaux d’ AEP et d’assainiss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a pénurie de certains matériaux nobles comme la fo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 développement de l’habitat illici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mpiétement des taches et prérogatives entre plusieurs institutions et organis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utilisation de procédés techniques non adaptes a notre pays (vides sanitaires et gaines technique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suffisance voire l’absence de schémas de ramifications des réseaux d’ AEP et d’assainis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304920"/>
            <a:ext cx="8229600" cy="68580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application des principaux textes de lois  portant sur l’urbanisme et l’habitat : on assiste actuellement a une rurbanisation de la vill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adéquation des taches et prérogatives de la commune en matière d’hygiène et de salubrité publique avec les moyens matériels et humains mis à sa disposi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mpiétement des taches et prérogatives dans la gestion de l’AEP et l’assainissement entre la commune, les DH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 cycle de l’eau de consommat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u brute destinée à la consommation humaine est prélevée dans un cours d’eau ou une </a:t>
            </a:r>
            <a:r>
              <a:rPr b="1" lang="en-US" sz="2400" spc="-1" strike="noStrike">
                <a:solidFill>
                  <a:srgbClr val="000000"/>
                </a:solidFill>
                <a:latin typeface="Arial"/>
              </a:rPr>
              <a:t>nappe</a:t>
            </a:r>
            <a:r>
              <a:rPr b="0" lang="en-US" sz="2400" spc="-1" strike="noStrike">
                <a:solidFill>
                  <a:srgbClr val="000000"/>
                </a:solidFill>
                <a:latin typeface="Arial"/>
              </a:rPr>
              <a:t> d’eaux souterraines. Elle est ensuite acheminée vers une usine de production d’eau potable où elle subit divers traitements physiques, chimiques et biologiques. Rendue potable, elle est distribuée aux consommateurs. Après usage, elle est recueillie pour être conduite vers les usines de dépollution des eaux usées, avant d’être enfin rendue à la nature.</a:t>
            </a:r>
            <a:br>
              <a:rPr sz="2400"/>
            </a:br>
            <a:br>
              <a:rPr sz="2400"/>
            </a:br>
            <a:r>
              <a:rPr b="0" lang="en-US" sz="2400" spc="-1" strike="noStrike">
                <a:solidFill>
                  <a:srgbClr val="000000"/>
                </a:solidFill>
                <a:latin typeface="Arial"/>
              </a:rPr>
              <a:t>Ce cycle subi par l’eau du fait de son usage par les sociétés humaines se décompose en cinq grandes étapes : le captage, le transport, la production d’eau potable, la distribution, puis la collecte et la dépollution des eaux usé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  </a:t>
            </a:r>
            <a:br>
              <a:rPr sz="24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yens de lutte</a:t>
            </a:r>
            <a:endParaRPr b="0" lang="en-US" sz="3600" spc="-1" strike="noStrike">
              <a:solidFill>
                <a:srgbClr val="000000"/>
              </a:solidFill>
              <a:latin typeface="Arial"/>
            </a:endParaRPr>
          </a:p>
        </p:txBody>
      </p:sp>
      <p:sp>
        <p:nvSpPr>
          <p:cNvPr id="88"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 Surveillance et contrôle de l’eau de boisson</a:t>
            </a:r>
            <a:r>
              <a:rPr b="1" lang="en-US" sz="2400" spc="-1" strike="noStrike">
                <a:solidFill>
                  <a:srgbClr val="ffff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ôle de la qualité chimique et bactériologique de l’ea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ellis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tien du réseau d’ AE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 Surveillance et contrôle du réseau d’évacuation des eaux us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illance et entretient du résea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de l’interdiction d’irriguer les cultures avec des eaux us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de traitement des eaux usé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457200"/>
            <a:ext cx="8229600" cy="5943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 Éducation sanitaire de la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ène individuel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ène alimentai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 Protection de l’environn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des règles d’hygiène du milie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des règles d’urbanis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tte contre les décharges publiques non contrôlé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imination correcte des ord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sinsectisations périodiq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4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3300"/>
                </a:solidFill>
                <a:latin typeface="Arial"/>
                <a:ea typeface="Gulim"/>
              </a:rPr>
              <a:t>Bonnes perspectives</a:t>
            </a:r>
            <a:br>
              <a:rPr sz="4000"/>
            </a:br>
            <a:endParaRPr b="0" lang="en-US" sz="4800" spc="-1" strike="noStrike">
              <a:solidFill>
                <a:srgbClr val="000000"/>
              </a:solidFill>
              <a:latin typeface="Arial"/>
            </a:endParaRPr>
          </a:p>
        </p:txBody>
      </p:sp>
      <p:sp>
        <p:nvSpPr>
          <p:cNvPr id="91" name="PlaceHolder 2"/>
          <p:cNvSpPr>
            <a:spLocks noGrp="1"/>
          </p:cNvSpPr>
          <p:nvPr>
            <p:ph/>
          </p:nvPr>
        </p:nvSpPr>
        <p:spPr>
          <a:xfrm>
            <a:off x="457200" y="2666880"/>
            <a:ext cx="8229600" cy="289584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ea typeface="Gulim"/>
              </a:rPr>
              <a:t>révision du code de la commune et de la fiscalité communale</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ea typeface="Gulim"/>
              </a:rPr>
              <a:t>budgétisation des BH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mise en place de la police des e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mise en place de la police de l’urbanis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renforcement des inspections de l’environn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finalisation et mise en œuvre des règlements sanitaires et urbanistiques de wilay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r>
              <a:rPr b="0" lang="en-US" sz="1400" spc="-1" strike="noStrike">
                <a:solidFill>
                  <a:srgbClr val="000000"/>
                </a:solidFill>
                <a:latin typeface="Arial"/>
              </a:rPr>
              <a:t> </a:t>
            </a:r>
            <a:r>
              <a:rPr b="1" lang="en-US" sz="1400" spc="-1" strike="noStrike" u="sng">
                <a:solidFill>
                  <a:srgbClr val="ff3300"/>
                </a:solidFill>
                <a:uFillTx/>
                <a:latin typeface="Arial"/>
              </a:rPr>
              <a:t>cycle subi par l’eau</a:t>
            </a:r>
            <a:r>
              <a:rPr b="0" lang="en-US" sz="1400" spc="-1" strike="noStrike">
                <a:solidFill>
                  <a:srgbClr val="000000"/>
                </a:solidFill>
                <a:latin typeface="Arial"/>
              </a:rPr>
              <a:t>: le captage, le transport, la production d’eau potable, la distribution, puis la collecte et la dépollution des eaux usées.</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À chaque étape de ce cycle, la qualité de l’eau est contrôlée par les traiteurs d’eau et les pouvoirs publics .La fréquence des contrôles est réglementée par les pouvoirs publics de chaque pays.</a:t>
            </a:r>
            <a:br>
              <a:rPr sz="1400"/>
            </a:br>
            <a:r>
              <a:rPr b="0" lang="en-US"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48" name=""/>
          <p:cNvSpPr/>
          <p:nvPr/>
        </p:nvSpPr>
        <p:spPr>
          <a:xfrm>
            <a:off x="1080" y="-36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1080" y="-36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380880" y="456840"/>
            <a:ext cx="844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 descr=""/>
          <p:cNvPicPr/>
          <p:nvPr/>
        </p:nvPicPr>
        <p:blipFill>
          <a:blip r:embed="rId1"/>
          <a:stretch/>
        </p:blipFill>
        <p:spPr>
          <a:xfrm>
            <a:off x="1905120" y="1600200"/>
            <a:ext cx="5715000" cy="478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858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ts à l’origine de la pollution de l’eau :</a:t>
            </a:r>
            <a:br>
              <a:rPr sz="4800"/>
            </a:br>
            <a:endParaRPr b="0" lang="en-US" sz="4800" spc="-1" strike="noStrike">
              <a:solidFill>
                <a:srgbClr val="000000"/>
              </a:solidFill>
              <a:latin typeface="Arial"/>
            </a:endParaRPr>
          </a:p>
        </p:txBody>
      </p:sp>
      <p:sp>
        <p:nvSpPr>
          <p:cNvPr id="5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u de la nature est d’autant moins potable aujourd’hui qu’elle est de plus en plus polluée par des substances rejetées par les sociétés humain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t généralement incriminées, les pollutions par les nitrates, les pesticides, les métaux lourds et les pollutions microbiologiqu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151920"/>
            <a:ext cx="8534520" cy="6126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es substances, comme les métaux lourds, ne sont pas éliminées par l’organisme. Ex:</a:t>
            </a:r>
            <a:r>
              <a:rPr b="1" lang="en-US" sz="3200" spc="-1" strike="noStrike">
                <a:solidFill>
                  <a:srgbClr val="ff3300"/>
                </a:solidFill>
                <a:latin typeface="Arial"/>
              </a:rPr>
              <a:t>Le plomb </a:t>
            </a:r>
            <a:r>
              <a:rPr b="0" lang="en-US" sz="3200" spc="-1" strike="noStrike">
                <a:solidFill>
                  <a:srgbClr val="000000"/>
                </a:solidFill>
                <a:latin typeface="Arial"/>
              </a:rPr>
              <a:t>passe dans le sang et va engendr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z les enfants: </a:t>
            </a:r>
            <a:r>
              <a:rPr b="0" lang="en-US" sz="3200" spc="-1" strike="noStrike" u="sng">
                <a:solidFill>
                  <a:srgbClr val="000000"/>
                </a:solidFill>
                <a:uFillTx/>
                <a:latin typeface="Arial"/>
              </a:rPr>
              <a:t>saturnis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issance, le développement du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ème nerveux central, le développement intellectuel).</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z les adultes:Des troubles de la reproduction, des insuffisances rénales, ou des encéphalopat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delà d’un certain seuil de concentration, </a:t>
            </a:r>
            <a:r>
              <a:rPr b="0" lang="en-US" sz="3600" spc="-1" strike="noStrike">
                <a:solidFill>
                  <a:srgbClr val="ff3300"/>
                </a:solidFill>
                <a:latin typeface="Arial"/>
              </a:rPr>
              <a:t>les nitrates</a:t>
            </a:r>
            <a:r>
              <a:rPr b="0" lang="en-US" sz="3600" spc="-1" strike="noStrike">
                <a:solidFill>
                  <a:srgbClr val="000000"/>
                </a:solidFill>
                <a:latin typeface="Arial"/>
              </a:rPr>
              <a:t> peuvent engendrer, chez les enfants et surtout les nourrissons très sensibles à une absorption trop importante, un empoisonnement du sang appelé une méthémoglobinémi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a:t>
            </a:r>
            <a:r>
              <a:rPr b="1" lang="en-US" sz="2800" spc="-1" strike="noStrike">
                <a:solidFill>
                  <a:srgbClr val="ff3300"/>
                </a:solidFill>
                <a:latin typeface="Arial"/>
              </a:rPr>
              <a:t>pesticides</a:t>
            </a:r>
            <a:r>
              <a:rPr b="1" lang="en-US" sz="2800" spc="-1" strike="noStrike">
                <a:solidFill>
                  <a:srgbClr val="000000"/>
                </a:solidFill>
                <a:latin typeface="Arial"/>
              </a:rPr>
              <a:t> forment une famille trè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mbre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ertains d’entre eux, comme l’atraz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 herbicide utilisé dans la culture d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ïs, sont </a:t>
            </a:r>
            <a:r>
              <a:rPr b="1" lang="en-US" sz="2800" spc="-1" strike="noStrike" u="sng">
                <a:solidFill>
                  <a:srgbClr val="333399"/>
                </a:solidFill>
                <a:uFillTx/>
                <a:latin typeface="Arial"/>
              </a:rPr>
              <a:t>cancérigèn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utres seraient susceptibles d’avoir d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ets négatifs sur la </a:t>
            </a:r>
            <a:r>
              <a:rPr b="1" lang="en-US" sz="2800" spc="-1" strike="noStrike" u="sng">
                <a:solidFill>
                  <a:srgbClr val="333399"/>
                </a:solidFill>
                <a:uFillTx/>
                <a:latin typeface="Arial"/>
              </a:rPr>
              <a:t>fertilité</a:t>
            </a:r>
            <a:r>
              <a:rPr b="1" lang="en-US" sz="2800" spc="-1" strike="noStrike">
                <a:solidFill>
                  <a:srgbClr val="000000"/>
                </a:solidFill>
                <a:latin typeface="Arial"/>
              </a:rPr>
              <a:t> masculine</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60948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EPIDEMIOLOGIE DES     MALADIES NFECTIEUSE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A TRANSMISSION</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YDRIQU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1T18:27:38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