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F7C-99AD-4488-ACEC-378A1BF9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4C5-43BC-4AF1-958F-7D4DA6E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421-D582-4F2C-9D36-5D34B104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E1C-BCD1-4C41-BB7B-4B1D5DBD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A80-609F-4217-A660-6AD6EBC1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EA1-38E0-4F59-BF0C-AEB973F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C44-74D1-430B-AA40-A2DE8525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AA9-78E4-43E0-884A-1708D8B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E6B-9F65-4ECD-89E6-3153007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0A5-E1B8-4AF8-95A2-E73016D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6F1-1321-4141-84F2-680104C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EBF-0201-44DB-AFDE-0F3CE69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5CB-4004-4140-9B4E-6FEAB8625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640"/>
            <a:ext cx="9144000" cy="682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36680"/>
            <a:ext cx="9144000" cy="598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4560" y="0"/>
            <a:ext cx="7454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3720" y="0"/>
            <a:ext cx="5415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120"/>
            <a:ext cx="9144000" cy="619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200" y="0"/>
            <a:ext cx="7634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8520" y="0"/>
            <a:ext cx="474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92160" y="0"/>
            <a:ext cx="5357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80"/>
            <a:ext cx="91440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680" y="0"/>
            <a:ext cx="870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0"/>
            <a:ext cx="9134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520" y="0"/>
            <a:ext cx="8832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2400"/>
            <a:ext cx="9144000" cy="6613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70000" y="0"/>
            <a:ext cx="5002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360"/>
            <a:ext cx="9144000" cy="656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7920"/>
            <a:ext cx="9144000" cy="63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18:22Z</dcterms:created>
  <dc:creator>Vörös István</dc:creator>
  <dc:description/>
  <dc:language>en-US</dc:language>
  <cp:lastModifiedBy>Smets</cp:lastModifiedBy>
  <dcterms:modified xsi:type="dcterms:W3CDTF">2008-11-03T17:57:04Z</dcterms:modified>
  <cp:revision>2</cp:revision>
  <dc:subject/>
  <dc:title>1. dia</dc:title>
</cp:coreProperties>
</file>