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C16-08E4-45E7-BFA6-2A02F328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8FC-5F34-48B7-8301-0A8EB1BF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5D7-1F1E-4F6C-93CF-9ABE16EF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EA4-70CC-44E4-8FF9-6B1286CB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C1F-5D3F-41DF-9C70-2A9157B4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FBD-736D-4305-8429-573E83DD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C41-EBD4-4CF1-B703-53BF4E0C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1C7-9F5C-4882-A5CD-74991D87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C3E-8A0A-4D93-A35A-405F1DE6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D6B-5480-430E-ABF6-657AFFA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183-3AAA-4021-949A-1EAC7D39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E2C-2A0F-4C96-9F8D-492BAADB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30E7-9B25-47B0-A7E6-2F1BF40B4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640"/>
            <a:ext cx="9144000" cy="682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36680"/>
            <a:ext cx="9144000" cy="598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44560" y="0"/>
            <a:ext cx="7454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63720" y="0"/>
            <a:ext cx="5415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120"/>
            <a:ext cx="9144000" cy="6197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200" y="0"/>
            <a:ext cx="7634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8520" y="0"/>
            <a:ext cx="4745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92160" y="0"/>
            <a:ext cx="5357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480"/>
            <a:ext cx="9144000" cy="68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680" y="0"/>
            <a:ext cx="8702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092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0" y="0"/>
            <a:ext cx="9134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5520" y="0"/>
            <a:ext cx="8832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2400"/>
            <a:ext cx="9144000" cy="6613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70000" y="0"/>
            <a:ext cx="5002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4360"/>
            <a:ext cx="9144000" cy="6567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77920"/>
            <a:ext cx="9144000" cy="63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4:18:22Z</dcterms:created>
  <dc:creator>Vörös István</dc:creator>
  <dc:description/>
  <dc:language>en-US</dc:language>
  <cp:lastModifiedBy>Smets</cp:lastModifiedBy>
  <dcterms:modified xsi:type="dcterms:W3CDTF">2008-11-03T17:57:04Z</dcterms:modified>
  <cp:revision>2</cp:revision>
  <dc:subject/>
  <dc:title>1. dia</dc:title>
</cp:coreProperties>
</file>