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FFD-8732-43E3-BEDA-1434549F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67B-54E7-4AE4-934E-6F39CAE4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BA3-BD86-4B5C-8243-BD9B1765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CA1-4D5D-49F0-B0C0-87B3A7D2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B79-F946-4848-88B5-C8C78DE5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CF9-A737-4043-93F5-24B7E66C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658-2AF0-4042-ADB1-4ABA43D8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704-B469-4FD0-AFD9-D341D6C2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BDD-6F79-426C-BEDE-E72BD71B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280-017B-4EA8-816F-60810426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473-9982-49B3-940C-76A36E98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994-7F78-4E33-BDD9-EA92A3EC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F2AE8-7363-4776-8F3F-512E96CF5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FCE56-1DA8-4C8F-8C8F-1F30D92D5E7D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1:51:14Z</dcterms:created>
  <dc:creator>최봉수</dc:creator>
  <dc:description/>
  <dc:language>en-US</dc:language>
  <cp:lastModifiedBy>Lee Hyun-Wu</cp:lastModifiedBy>
  <dcterms:modified xsi:type="dcterms:W3CDTF">2023-07-04T20:20:50Z</dcterms:modified>
  <cp:revision>3</cp:revision>
  <dc:subject/>
  <dc:title>슬라이드 1</dc:title>
</cp:coreProperties>
</file>