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254-B28D-4034-B960-C36FA870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FBF-895E-407C-948C-7C319B2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52B-C0F5-433C-AF9C-CE471EB2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728-45C6-481C-AB16-7361E501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EA6-858A-459C-9368-FE960C56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84D-6D62-49F3-9236-0A4CC608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CF3-B244-443C-8F14-7A5EB6C5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C75-B0CB-4B85-B1C1-63E7C482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554-5E8C-431C-9FB1-3C100BEA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213-DEAE-4926-BBBA-0A9C5452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4AA-0397-44EF-9F74-9834A88A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DA7-7B4F-4E8C-9DA6-395FCD1A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86B89-E22C-42F2-A885-FEC2920B4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C742C-065C-4D6B-BE79-4B5540889C03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1:51:14Z</dcterms:created>
  <dc:creator>최봉수</dc:creator>
  <dc:description/>
  <dc:language>en-US</dc:language>
  <cp:lastModifiedBy>Lee Hyun-Wu</cp:lastModifiedBy>
  <dcterms:modified xsi:type="dcterms:W3CDTF">2023-07-04T20:20:50Z</dcterms:modified>
  <cp:revision>3</cp:revision>
  <dc:subject/>
  <dc:title>슬라이드 1</dc:title>
</cp:coreProperties>
</file>