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190-2872-4AAC-80D0-0B709170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262-801C-4F5E-B24B-294EF141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A1A-B3F9-4B81-ADBA-6A5178C8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5E1-A497-499E-84F1-A56DE289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D66-C196-45CF-8420-D0BE3942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B7F-161B-4B9D-A5C3-D1B5AE91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A85-0513-476C-9932-D1007444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1BD-C345-4C1D-BDCC-C446CD35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A35-5A09-46A6-9B24-A928354F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1CD-B9FB-4DBA-BD8A-ED1AC761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B14-A9D4-433C-8D31-1650F07B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DC2-EA24-4C61-A069-CCA583E0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1895B-75B4-4178-B83B-7A490858EE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B6F90-0747-4F4F-9551-F73FD05A11D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4:03:31Z</dcterms:created>
  <dc:creator>최봉수</dc:creator>
  <dc:description/>
  <dc:language>en-US</dc:language>
  <cp:lastModifiedBy>맛있다 군만두</cp:lastModifiedBy>
  <dcterms:modified xsi:type="dcterms:W3CDTF">2024-09-24T08:18:40Z</dcterms:modified>
  <cp:revision>4</cp:revision>
  <dc:subject/>
  <dc:title>슬라이드 1</dc:title>
</cp:coreProperties>
</file>