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A66-F21F-4AEB-AA89-9C36A08F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306-3C81-451B-AAC2-077EDD5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877-B062-4C47-9F18-B5535BB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F09-65AF-481F-8AFE-8E686127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CC5-DE10-4296-92AB-67CA237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721-AAE9-4027-8247-17165B27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589-1F32-4336-B7DD-1559AA7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5E8-64B5-436F-A602-0663626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1D1-A80F-4837-BA00-EE75CB7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0B1-C337-4394-A3D2-EB3F91B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2D5-26E5-42C6-927A-BB3AE99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1D9-DB8C-4ED3-A636-8F00A12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962-7F36-4619-8CD5-0B9D7411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me.gov.za/energy/refso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me.gov.za/energy/refso.stm" TargetMode="External"/><Relationship Id="rId3" Type="http://schemas.openxmlformats.org/officeDocument/2006/relationships/hyperlink" Target="mailto:refso@dme.gov.za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133720"/>
            <a:ext cx="6622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EWABLE ENERGY FINANCE &amp; SUBSIDY OFF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 JUNE 2007 – CAPE TOW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3D7-0D9D-467C-BF6F-7AF102A655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836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0160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F5F-A58F-47A2-8715-23F5B978F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3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subsid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the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y contract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access RE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FFA-3A41-4D96-93FD-C2DC5CAB6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210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Overview of the RE subsi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features of the sc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tal grant for new RE projects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s should use commercially- proven RE technolog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capital cost of project must be less or equal R 100 mill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y amount cannot exceed 20% of the project capital c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project size of: 1 MW for electricity, 914 kl/year for bio-dies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495 kl/year for bio-ethanol (or equivalent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y rates for 07/08: R500/kW for electricity, R273/kilo-litre/year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-diesel, R167/kilo-litre/year for bio-ethan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25% BEE  particip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, any other support (e.g. CDM, certificates, tax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8F2-071B-4195-9FDD-6A336B4BA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69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9280" y="11592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ilding the R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47640" y="549360"/>
            <a:ext cx="7086600" cy="858600"/>
            <a:chOff x="1547640" y="549360"/>
            <a:chExt cx="7086600" cy="858600"/>
          </a:xfrm>
        </p:grpSpPr>
        <p:sp>
          <p:nvSpPr>
            <p:cNvPr id="53" name=""/>
            <p:cNvSpPr/>
            <p:nvPr/>
          </p:nvSpPr>
          <p:spPr>
            <a:xfrm>
              <a:off x="1547640" y="549360"/>
              <a:ext cx="708660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86280" y="68436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stainable RE Indu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47640" y="1413000"/>
            <a:ext cx="7086600" cy="956880"/>
            <a:chOff x="1547640" y="1413000"/>
            <a:chExt cx="7086600" cy="956880"/>
          </a:xfrm>
        </p:grpSpPr>
        <p:sp>
          <p:nvSpPr>
            <p:cNvPr id="56" name=""/>
            <p:cNvSpPr/>
            <p:nvPr/>
          </p:nvSpPr>
          <p:spPr>
            <a:xfrm>
              <a:off x="1547640" y="1413000"/>
              <a:ext cx="708660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86080" y="1525320"/>
              <a:ext cx="5333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F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minister and manage subsidies, and provide advice to develop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76360" y="2349360"/>
            <a:ext cx="7359480" cy="2915640"/>
            <a:chOff x="1476360" y="2349360"/>
            <a:chExt cx="7359480" cy="291564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5256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3544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36256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2676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476360" y="48078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pression of inter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05160" y="48060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tter of Regist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86240" y="48078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sidy awar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59680" y="4806000"/>
              <a:ext cx="1676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itor &amp; Disburs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4000" y="1413000"/>
            <a:ext cx="9144000" cy="4791960"/>
            <a:chOff x="324000" y="1413000"/>
            <a:chExt cx="9144000" cy="4791960"/>
          </a:xfrm>
        </p:grpSpPr>
        <p:grpSp>
          <p:nvGrpSpPr>
            <p:cNvPr id="68" name=""/>
            <p:cNvGrpSpPr/>
            <p:nvPr/>
          </p:nvGrpSpPr>
          <p:grpSpPr>
            <a:xfrm>
              <a:off x="324000" y="5222880"/>
              <a:ext cx="9144000" cy="982080"/>
              <a:chOff x="324000" y="5222880"/>
              <a:chExt cx="9144000" cy="98208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24000" y="5222880"/>
                <a:ext cx="9144000" cy="914400"/>
                <a:chOff x="324000" y="5222880"/>
                <a:chExt cx="9144000" cy="9144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324000" y="5222880"/>
                  <a:ext cx="9144000" cy="914400"/>
                  <a:chOff x="324000" y="5222880"/>
                  <a:chExt cx="9144000" cy="91440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009800" y="5222880"/>
                    <a:ext cx="7772400" cy="4572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0800000">
                    <a:off x="324000" y="5679720"/>
                    <a:ext cx="9144000" cy="457200"/>
                  </a:xfrm>
                  <a:custGeom>
                    <a:avLst/>
                    <a:gdLst>
                      <a:gd name="textAreaLeft" fmla="*/ 1135800 w 9144000"/>
                      <a:gd name="textAreaRight" fmla="*/ 8008200 w 9144000"/>
                      <a:gd name="textAreaTop" fmla="*/ 56520 h 457200"/>
                      <a:gd name="textAreaBottom" fmla="*/ 400680 h 45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920" y="21600"/>
                        </a:lnTo>
                        <a:lnTo>
                          <a:pt x="168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2347920" y="5241960"/>
                  <a:ext cx="51055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Submit EoI (through-out the year) and contract applications (12 month after LoR issu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554480" y="5745240"/>
                <a:ext cx="670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oject Develop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58520" y="1413000"/>
              <a:ext cx="304560" cy="3886200"/>
            </a:xfrm>
            <a:prstGeom prst="upDownArrow">
              <a:avLst>
                <a:gd name="adj1" fmla="val 50000"/>
                <a:gd name="adj2" fmla="val 2540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95A-12A3-4599-8C5A-9FCB00177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6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ubsidy Contrac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must be located within the borders of South Afr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must use commercially viable RE technolog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project must have an installed capacity of at least 1 MW (electricity), 914 kl/year (bio-diesel) or 1495 kl/year (bio-ethanol) or equival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least 25% BEE ownership that is line with relevant legisl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completed feasibility study that shows the total estimated capital cost of the project is less than R100 mill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al and planning permits must be in pl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on or fuel manufacturing licenses in pl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must have reached financial closure (or financial           closure must be subject only to the subsidy awa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-take agreements (e.g. PPA) with customers are in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probability that the project will commence with         construction in the next 12 month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must comply with section 38(1)(j) of the PF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vailability of subsidy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244-DD26-4966-9E50-752EFEADC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6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ow to access RE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ally fill-in application forms obtainable from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me.gov.za/energy/refso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ier or hand deliver application forms with project documentation to DME – REFSO in Preto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developers can submit grants applications at any given 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s needed by REFSO, Banks, resource-use authorities etc are almost the s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developers are advised to secure critical documents as a starting point (Feasibility Study, PPA, EI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jects with capital costs over R100 million will also be considered on speci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259-F24D-4DA8-A279-CDC675B54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71388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y (grants) payments are tied to milestones during construction of the pl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cknowledges inadequateness of the current financial assistance, howe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tart and together with private sector it could be improv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E is investigating other long-term sustainable RE financing mechanism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4D9-9BC3-4CF5-896C-40B98E543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280" y="1412640"/>
            <a:ext cx="7139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visi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me.gov.za/energy/refso.s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all REFSO @ (012) 317 8569/87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write t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fso@dme.gov.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1D3-B617-4CAE-A010-BA7C5B4ECE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8:25:32Z</dcterms:created>
  <dc:creator>Department of Minerals and Energy</dc:creator>
  <dc:description/>
  <dc:language>en-US</dc:language>
  <cp:lastModifiedBy>sandiswa</cp:lastModifiedBy>
  <dcterms:modified xsi:type="dcterms:W3CDTF">2007-06-07T06:29:57Z</dcterms:modified>
  <cp:revision>56</cp:revision>
  <dc:subject/>
  <dc:title>Slide 1</dc:title>
</cp:coreProperties>
</file>