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130-0D80-4FD4-9FBB-F4856C7F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9CB-D05E-4BB5-9E0F-A7E81442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C92-6022-496F-89D6-5B97648E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137-9FEC-48D0-AB9C-1816BF46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624-70C6-4A77-B649-54487CAC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538-ED24-44E2-BBAA-716D1EB1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0FB-E576-4CE3-9E20-6AA7C19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2AB-5803-4207-9CA4-EFB5166E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5D3-1D91-476A-9AA8-A0F73FA4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99B-F268-43B1-98E3-BF8172AA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111-8661-4C71-B111-1D88220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B24-D055-4B2C-A59B-E569F5F6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C1D-5DF8-4C9D-A8D4-E1693BE62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me.gov.za/energy/refso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me.gov.za/energy/refso.stm" TargetMode="External"/><Relationship Id="rId3" Type="http://schemas.openxmlformats.org/officeDocument/2006/relationships/hyperlink" Target="mailto:refso@dme.gov.za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133720"/>
            <a:ext cx="66229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EWABLE ENERGY FINANCE &amp; SUBSIDY OFF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 JUNE 2007 – CAPE TOW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467-D44F-4758-B78B-5AE4BF16A2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83664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01608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AE9-3FE4-4596-ABEE-6E16EE7AE2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83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subsid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the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y contract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access RE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C21-27EE-482D-A65B-FE5BE0B257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210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Overview of the RE subsid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features of the sch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tal grant for new RE projects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s should use commercially- proven RE technolog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capital cost of project must be less or equal R 100 mill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y amount cannot exceed 20% of the project capital c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project size of: 1 MW for electricity, 914 kl/year for bio-dies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495 kl/year for bio-ethanol (or equivalent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y rates for 07/08: R500/kW for electricity, R273/kilo-litre/year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o-diesel, R167/kilo-litre/year for bio-ethan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25% BEE  particip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, any other support (e.g. CDM, certificates, tax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ECB-B960-450E-BD36-49EF9124D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69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79280" y="11592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ilding the R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47640" y="549360"/>
            <a:ext cx="7086600" cy="858600"/>
            <a:chOff x="1547640" y="549360"/>
            <a:chExt cx="7086600" cy="858600"/>
          </a:xfrm>
        </p:grpSpPr>
        <p:sp>
          <p:nvSpPr>
            <p:cNvPr id="53" name=""/>
            <p:cNvSpPr/>
            <p:nvPr/>
          </p:nvSpPr>
          <p:spPr>
            <a:xfrm>
              <a:off x="1547640" y="549360"/>
              <a:ext cx="7086600" cy="85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86280" y="684360"/>
              <a:ext cx="213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stainable RE Indu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547640" y="1413000"/>
            <a:ext cx="7086600" cy="956880"/>
            <a:chOff x="1547640" y="1413000"/>
            <a:chExt cx="7086600" cy="956880"/>
          </a:xfrm>
        </p:grpSpPr>
        <p:sp>
          <p:nvSpPr>
            <p:cNvPr id="56" name=""/>
            <p:cNvSpPr/>
            <p:nvPr/>
          </p:nvSpPr>
          <p:spPr>
            <a:xfrm>
              <a:off x="1547640" y="1413000"/>
              <a:ext cx="7086600" cy="6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86080" y="1525320"/>
              <a:ext cx="53337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F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minister and manage subsidies, and provide advice to develop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76360" y="2349360"/>
            <a:ext cx="7359480" cy="2915640"/>
            <a:chOff x="1476360" y="2349360"/>
            <a:chExt cx="7359480" cy="291564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525680" y="2349360"/>
              <a:ext cx="1550880" cy="24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3354480" y="2349360"/>
              <a:ext cx="1550880" cy="24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5362560" y="2349360"/>
              <a:ext cx="1550880" cy="24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267680" y="2349360"/>
              <a:ext cx="1550880" cy="24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476360" y="4807800"/>
              <a:ext cx="16765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pression of inter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05160" y="4806000"/>
              <a:ext cx="16765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tter of Registr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86240" y="4807800"/>
              <a:ext cx="167652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sidy awar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59680" y="4806000"/>
              <a:ext cx="1676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nitor &amp; Disburs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4000" y="1413000"/>
            <a:ext cx="9144000" cy="4791960"/>
            <a:chOff x="324000" y="1413000"/>
            <a:chExt cx="9144000" cy="4791960"/>
          </a:xfrm>
        </p:grpSpPr>
        <p:grpSp>
          <p:nvGrpSpPr>
            <p:cNvPr id="68" name=""/>
            <p:cNvGrpSpPr/>
            <p:nvPr/>
          </p:nvGrpSpPr>
          <p:grpSpPr>
            <a:xfrm>
              <a:off x="324000" y="5222880"/>
              <a:ext cx="9144000" cy="982080"/>
              <a:chOff x="324000" y="5222880"/>
              <a:chExt cx="9144000" cy="98208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324000" y="5222880"/>
                <a:ext cx="9144000" cy="914400"/>
                <a:chOff x="324000" y="5222880"/>
                <a:chExt cx="9144000" cy="91440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324000" y="5222880"/>
                  <a:ext cx="9144000" cy="914400"/>
                  <a:chOff x="324000" y="5222880"/>
                  <a:chExt cx="9144000" cy="91440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1009800" y="5222880"/>
                    <a:ext cx="7772400" cy="457200"/>
                  </a:xfrm>
                  <a:prstGeom prst="rect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0800000">
                    <a:off x="324000" y="5679720"/>
                    <a:ext cx="9144000" cy="457200"/>
                  </a:xfrm>
                  <a:custGeom>
                    <a:avLst/>
                    <a:gdLst>
                      <a:gd name="textAreaLeft" fmla="*/ 1135800 w 9144000"/>
                      <a:gd name="textAreaRight" fmla="*/ 8008200 w 9144000"/>
                      <a:gd name="textAreaTop" fmla="*/ 56520 h 457200"/>
                      <a:gd name="textAreaBottom" fmla="*/ 400680 h 457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9920" y="21600"/>
                        </a:lnTo>
                        <a:lnTo>
                          <a:pt x="1680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" name=""/>
                <p:cNvSpPr/>
                <p:nvPr/>
              </p:nvSpPr>
              <p:spPr>
                <a:xfrm>
                  <a:off x="2347920" y="5241960"/>
                  <a:ext cx="51055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</a:rPr>
                    <a:t>Submit EoI (through-out the year) and contract applications (12 month after LoR issu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554480" y="5745240"/>
                <a:ext cx="670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oject Develop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58520" y="1413000"/>
              <a:ext cx="304560" cy="3886200"/>
            </a:xfrm>
            <a:prstGeom prst="upDownArrow">
              <a:avLst>
                <a:gd name="adj1" fmla="val 50000"/>
                <a:gd name="adj2" fmla="val 2540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5B3-3525-4D27-826C-4F6A5D903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67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ubsidy Contrac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92360" y="980640"/>
            <a:ext cx="7067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must be located within the borders of South Afr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must use commercially viable RE technolog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project must have an installed capacity of at least 1 MW (electricity), 914 kl/year (bio-diesel) or 1495 kl/year (bio-ethanol) or equival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 least 25% BEE ownership that is line with relevant legisl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completed feasibility study that shows the total estimated capital cost of the project is less than R100 milli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al and planning permits must be in pla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ion or fuel manufacturing licenses in pla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must have reached financial closure (or financial           closure must be subject only to the subsidy awar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-take agreements (e.g. PPA) with customers are in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probability that the project will commence with         construction in the next 12 month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must comply with section 38(1)(j) of the PF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vailability of subsidy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54F-A512-4507-8505-1D28AC5B3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67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How to access RE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360" y="980640"/>
            <a:ext cx="7067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ally fill-in application forms obtainable from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me.gov.za/energy/refso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rier or hand deliver application forms with project documentation to DME – REFSO in Preto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developers can submit grants applications at any given ti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ments needed by REFSO, Banks, resource-use authorities etc are almost the s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 developers are advised to secure critical documents as a starting point (Feasibility Study, PPA, EI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rojects with capital costs over R100 million will also be considered on speci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D0E-1CFD-409F-BF72-98328450DE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19280" y="1125360"/>
            <a:ext cx="71388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dy (grants) payments are tied to milestones during construction of the pla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acknowledges inadequateness of the current financial assistance, howev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tart and together with private sector it could be improv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E is investigating other long-term sustainable RE financing mechanism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F9E-27CC-4612-BFB0-640B4DCD73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47280" y="1412640"/>
            <a:ext cx="7139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information visi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me.gov.za/energy/refso.s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all REFSO @ (012) 317 8569/87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write to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fso@dme.gov.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E5B-9FBA-4921-8AB5-F8DD54A4D9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8:25:32Z</dcterms:created>
  <dc:creator>Department of Minerals and Energy</dc:creator>
  <dc:description/>
  <dc:language>en-US</dc:language>
  <cp:lastModifiedBy>sandiswa</cp:lastModifiedBy>
  <dcterms:modified xsi:type="dcterms:W3CDTF">2007-06-07T06:29:57Z</dcterms:modified>
  <cp:revision>56</cp:revision>
  <dc:subject/>
  <dc:title>Slide 1</dc:title>
</cp:coreProperties>
</file>