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28F-A99E-4B85-8027-CDA42AF9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7BB-2594-45A2-89F1-6E28212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B66-D8D9-45B7-8DF3-0C9FDC83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7B8-1CA6-40EA-9AB7-FC9C5F93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6A1-52E6-4A66-A536-108FB509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8C3C-F6EB-45BD-90E7-9EB0B507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6F89-F48D-4211-B7A1-5F4905D2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474E-31C6-4FEB-9E30-D63B8BE6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29BE-60B4-48AC-A4C9-EB5D1A45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5063-6B8E-441D-BE2D-FF103690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8135-C03B-4E13-85B8-DA90E97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E41-F989-409B-B311-66CCF8B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7A38-EBA7-4977-B79C-0B45C4C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E660-4188-44A9-8213-2D02447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5EF4-E0EE-4390-9475-3CD7331B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2281-0963-4936-AAEA-1D04EEAA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8757-E7D5-4778-B25B-C158DFA0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BB5-3903-4144-A4BF-EB36A8F5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6F6-BAB1-402E-8C65-649C25A4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DCA-7DA2-475A-BC18-10093342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132-136D-4143-B7BC-1AEAD6D1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350-3C6F-46F4-B7EE-FF3DA41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88A-905C-486F-8224-F8969FF2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B2D-DF46-431D-B131-5974641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d3b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84D6-0DC5-433B-97A7-D05ADCDF5F34}" type="datetime">
              <a:rPr b="0" lang="ar-SA" sz="1200" spc="-1" strike="noStrike">
                <a:solidFill>
                  <a:srgbClr val="ffffff"/>
                </a:solidFill>
                <a:latin typeface="Tahoma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 </a:t>
            </a:r>
            <a:fld id="{E3A46331-041E-4433-9279-438701F7A4BE}" type="datetime10">
              <a:rPr b="0" lang="ar-SA" sz="1200" spc="-1" strike="noStrike">
                <a:solidFill>
                  <a:srgbClr val="ffffff"/>
                </a:solidFill>
                <a:latin typeface="Tahoma"/>
              </a:rPr>
              <a:t>22:0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526-5408-44C7-B864-60E82A5F1D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635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2889-FE8F-4D1C-81B4-BE404D67F0C5}" type="datetime">
              <a:rPr b="0" lang="ar-SA" sz="1200" spc="-1" strike="noStrike">
                <a:solidFill>
                  <a:srgbClr val="ffffff"/>
                </a:solidFill>
                <a:latin typeface="Tahoma"/>
              </a:rPr>
              <a:t>١٤٤٨/٠٢/١٦</a:t>
            </a:fld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 </a:t>
            </a:r>
            <a:fld id="{AF0816FA-EEED-42E1-BC88-EFED222CAA1D}" type="datetime10">
              <a:rPr b="0" lang="ar-SA" sz="1200" spc="-1" strike="noStrike">
                <a:solidFill>
                  <a:srgbClr val="ffffff"/>
                </a:solidFill>
                <a:latin typeface="Tahoma"/>
              </a:rPr>
              <a:t>22:0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E3CC-7AD8-4F63-8A37-22329CCC76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y968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horacic_aorta" TargetMode="External"/><Relationship Id="rId2" Type="http://schemas.openxmlformats.org/officeDocument/2006/relationships/hyperlink" Target="http://en.wikipedia.org/wiki/Descending_aorta" TargetMode="External"/><Relationship Id="rId3" Type="http://schemas.openxmlformats.org/officeDocument/2006/relationships/hyperlink" Target="http://en.wikipedia.org/wiki/Azygos_vein" TargetMode="External"/><Relationship Id="rId4" Type="http://schemas.openxmlformats.org/officeDocument/2006/relationships/hyperlink" Target="http://en.wikipedia.org/wiki/Azygos_vein" TargetMode="External"/><Relationship Id="rId5" Type="http://schemas.openxmlformats.org/officeDocument/2006/relationships/hyperlink" Target="http://en.wikipedia.org/wiki/Hemiazygos_vein" TargetMode="External"/><Relationship Id="rId6" Type="http://schemas.openxmlformats.org/officeDocument/2006/relationships/hyperlink" Target="http://en.wikipedia.org/wiki/Hemiazygos_vein" TargetMode="External"/><Relationship Id="rId7" Type="http://schemas.openxmlformats.org/officeDocument/2006/relationships/hyperlink" Target="http://en.wikipedia.org/wiki/Accessory_hemiazygos_vein" TargetMode="External"/><Relationship Id="rId8" Type="http://schemas.openxmlformats.org/officeDocument/2006/relationships/hyperlink" Target="http://en.wikipedia.org/wiki/Accessory_hemiazygos_vein" TargetMode="External"/><Relationship Id="rId9" Type="http://schemas.openxmlformats.org/officeDocument/2006/relationships/hyperlink" Target="http://en.wikipedia.org/wiki/Accessory_hemiazygos_vein" TargetMode="External"/><Relationship Id="rId10" Type="http://schemas.openxmlformats.org/officeDocument/2006/relationships/hyperlink" Target="http://en.wikipedia.org/wiki/Vagus_nerve" TargetMode="External"/><Relationship Id="rId11" Type="http://schemas.openxmlformats.org/officeDocument/2006/relationships/hyperlink" Target="http://en.wikipedia.org/wiki/Vagus_nerve" TargetMode="External"/><Relationship Id="rId12" Type="http://schemas.openxmlformats.org/officeDocument/2006/relationships/hyperlink" Target="http://en.wikipedia.org/wiki/Splanchnic_nerves" TargetMode="External"/><Relationship Id="rId13" Type="http://schemas.openxmlformats.org/officeDocument/2006/relationships/hyperlink" Target="http://en.wikipedia.org/wiki/Splanchnic_nerves" TargetMode="External"/><Relationship Id="rId14" Type="http://schemas.openxmlformats.org/officeDocument/2006/relationships/hyperlink" Target="http://en.wikipedia.org/wiki/Sympathetic_chain" TargetMode="External"/><Relationship Id="rId15" Type="http://schemas.openxmlformats.org/officeDocument/2006/relationships/slide" Target=""/><Relationship Id="rId16" Type="http://schemas.openxmlformats.org/officeDocument/2006/relationships/hyperlink" Target="http://en.wikipedia.org/wiki/Esophagus" TargetMode="External"/><Relationship Id="rId17" Type="http://schemas.openxmlformats.org/officeDocument/2006/relationships/hyperlink" Target="http://en.wikipedia.org/wiki/Thoracic_duct" TargetMode="External"/><Relationship Id="rId18" Type="http://schemas.openxmlformats.org/officeDocument/2006/relationships/hyperlink" Target="http://en.wikipedia.org/wiki/Lymph_glands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ediastinum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art" TargetMode="External"/><Relationship Id="rId2" Type="http://schemas.openxmlformats.org/officeDocument/2006/relationships/hyperlink" Target="http://en.wikipedia.org/wiki/Pericardium" TargetMode="External"/><Relationship Id="rId3" Type="http://schemas.openxmlformats.org/officeDocument/2006/relationships/hyperlink" Target="http://en.wikipedia.org/wiki/Ascending_aorta" TargetMode="External"/><Relationship Id="rId4" Type="http://schemas.openxmlformats.org/officeDocument/2006/relationships/hyperlink" Target="http://en.wikipedia.org/wiki/Superior_vena_cava" TargetMode="External"/><Relationship Id="rId5" Type="http://schemas.openxmlformats.org/officeDocument/2006/relationships/hyperlink" Target="http://en.wikipedia.org/wiki/Azygos_vein" TargetMode="External"/><Relationship Id="rId6" Type="http://schemas.openxmlformats.org/officeDocument/2006/relationships/hyperlink" Target="http://en.wikipedia.org/wiki/Azygos_vein" TargetMode="External"/><Relationship Id="rId7" Type="http://schemas.openxmlformats.org/officeDocument/2006/relationships/hyperlink" Target="http://en.wikipedia.org/wiki/Bifurcation_of_the_trachea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ricardium" TargetMode="External"/><Relationship Id="rId2" Type="http://schemas.openxmlformats.org/officeDocument/2006/relationships/hyperlink" Target="http://en.wikipedia.org/wiki/Diaphragm_(anatomy)" TargetMode="External"/><Relationship Id="rId3" Type="http://schemas.openxmlformats.org/officeDocument/2006/relationships/hyperlink" Target="http://en.wikipedia.org/wiki/Thoracic_plane" TargetMode="External"/><Relationship Id="rId4" Type="http://schemas.openxmlformats.org/officeDocument/2006/relationships/hyperlink" Target="http://en.wikipedia.org/wiki/Vertebral_column" TargetMode="External"/><Relationship Id="rId5" Type="http://schemas.openxmlformats.org/officeDocument/2006/relationships/hyperlink" Target="http://en.wikipedia.org/wiki/Thoracic_vertebra" TargetMode="External"/><Relationship Id="rId6" Type="http://schemas.openxmlformats.org/officeDocument/2006/relationships/hyperlink" Target="http://en.wikipedia.org/wiki/Mediastinal_pleura" TargetMode="External"/><Relationship Id="rId7" Type="http://schemas.openxmlformats.org/officeDocument/2006/relationships/hyperlink" Target="http://en.wikipedia.org/wiki/Mediastinal_pleura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5400" spc="-1" strike="noStrike">
                <a:solidFill>
                  <a:srgbClr val="d8b274"/>
                </a:solidFill>
                <a:latin typeface="Tahoma"/>
              </a:rPr>
              <a:t>المنصف</a:t>
            </a:r>
            <a:endParaRPr b="0" lang="en-US" sz="5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هو المنطقة المتوسطة من الجوف الصدري التي تفصل بين المنطقتين الرئويتين الجنبيت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4EF-4D04-446C-B75E-5B644B2C59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5E00CD8-152E-4CD5-8725-7EFD10FE0D24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d8b274"/>
                </a:solidFill>
                <a:latin typeface="Tahoma"/>
              </a:rPr>
              <a:t>صورة لمحتويات المنصف المتوسط والخلفي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628640"/>
            <a:ext cx="41767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202-F740-42D5-A3F4-3E4677A58E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71B86-761B-4F0E-8DEB-7E3AFF884101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Posterior mediastenum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er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thoracic part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escending aorta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in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zygo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 vein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hemiazygo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 vein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accessory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hemiazygo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 vein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rve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vagu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 nerv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splanchnic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 nerve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not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sympathetic chain</a:t>
            </a:r>
            <a:r>
              <a:rPr b="0" lang="ar-SA" sz="2000" spc="-1" strike="noStrike" u="sng">
                <a:solidFill>
                  <a:srgbClr val="ffcc00"/>
                </a:solidFill>
                <a:uFillTx/>
                <a:latin typeface="Tahoma"/>
                <a:hlinkClick r:id="rId15" action="ppaction://hlinksldjump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esophag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thoracic duct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lymph gland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CEB-68F8-4FB3-B954-3B7E6327C3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34186-D968-4539-8AF4-43714F8D25B1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d8b274"/>
                </a:solidFill>
                <a:latin typeface="Tahoma"/>
              </a:rPr>
              <a:t>المنصف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ffffff"/>
                </a:solidFill>
                <a:uFillTx/>
                <a:latin typeface="Tahoma"/>
              </a:rPr>
              <a:t>الحدود  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من الامام  : السطح الخلفي لعظم القص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من الخلف : الوجه للفقرات الصدرية الاربعة العلوية الامام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من الاعلى : مدخل الصدر وقمة الرئت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من الاسفل : الحجاب الحاجز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310-A3EE-4D8B-9554-EB2FAFB943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8455A-321A-4710-9770-E0A139055DEF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4243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E34-5DA2-4D90-95F0-35D1F9BFF8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04868-F07D-4152-973D-AFB245F5C10F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14316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C92-24BE-4DC5-8799-F546AA9512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31CCE-106C-4AAB-BAC1-3EDAD8510623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d8b274"/>
                </a:solidFill>
                <a:latin typeface="Tahoma"/>
              </a:rPr>
              <a:t>اقسام المنصف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اقسام المنص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31687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E64-91CB-49F0-A7FD-2413E0926E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062F7-9284-4AEA-A350-A800348CB742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d8b274"/>
                </a:solidFill>
                <a:latin typeface="Tahoma"/>
              </a:rPr>
              <a:t>اقسام المنصف 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يقسم المنصف بخط وهمي  يبدأ من زاوية عظم القص من الامام الى الحافة السفلية من جسم الفقرة الصدرية الرابعة في الخلف الى قسمين  : علوي وسفلي . وبخطين وهميين يقعان امام وخلف التامور يقسمان المنصف السفلي الى ثلاثة اقسام : امامي ( امام القلب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  متوسط ( القلب والرغامى والأوعية الاساسية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  خلفي   ( خلف القلب )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حديثا يقسم المنصف فقط الى : امامي ومتوسط وخلف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259-6869-4460-AB0E-02F651ACA4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5808A-6A92-494D-AF1B-BD5F62186E7A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d8b274"/>
                </a:solidFill>
                <a:latin typeface="Tahoma"/>
              </a:rPr>
              <a:t>محتويات المنصف </a:t>
            </a:r>
            <a:br>
              <a:rPr sz="4000"/>
            </a:br>
            <a:r>
              <a:rPr b="0" lang="ar-SY" sz="4000" spc="-1" strike="noStrike">
                <a:solidFill>
                  <a:srgbClr val="d8b274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d8b274"/>
                </a:solidFill>
                <a:latin typeface="Tahoma"/>
              </a:rPr>
              <a:t>anterior mediastinum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rrow nearly potential space between the pericardium posteriorly and the sternum anterior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contains the thymus or its remnants, some lymph nodes, and the vessels and branches of the internal thoracic art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88F-52B5-4033-8F52-53F50A766A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DD993-E200-4B9A-BC2E-645CC838914F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b274"/>
                </a:solidFill>
                <a:latin typeface="Tahoma"/>
              </a:rPr>
              <a:t>middle mediastinum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ddle mediastinum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the broadest part of the interpleural spac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is made up of the pericardial sac and its contents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tain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eart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closed in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ericardium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scending aorta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ower half of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perior vena cava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azygo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 vein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ning into it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bifurcation of the trachea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 two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onchi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lmonary artery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viding into its two branche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ight and left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lmonary vein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renic nerve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 bronchial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ymphatic gland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6F4-D34A-4EDD-9781-942F60787E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A1A7B-5F41-40AF-B8D7-206279F1EBDA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Posterior mediastenum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und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bounded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ally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pericardiu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front of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iorally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iaphrag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ow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eriorally by the transvers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thoracic plan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v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plane is marked by an imaginary line travelling through the manubriosternal joint to the dividing line between the fourth and fifth thoracic vertebra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ally by the bodies of th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vertebral colum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the lower border of the fourth to the twelfth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horacic vertebr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hind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ally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mediastinal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pleur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either sid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04E-096D-4ED4-9D54-FCC80768C4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BC590-CAB4-4F4E-A024-5059FE8ED364}" type="datetime8">
              <a:rPr lang="en-US"/>
              <a:t>07/30/26 22: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0:59:01Z</dcterms:created>
  <dc:creator>د.قدري الحاج مصطفى</dc:creator>
  <dc:description/>
  <dc:language>en-US</dc:language>
  <cp:lastModifiedBy>د.قدري الحاج مصطفى</cp:lastModifiedBy>
  <dcterms:modified xsi:type="dcterms:W3CDTF">2009-01-24T18:43:08Z</dcterms:modified>
  <cp:revision>24</cp:revision>
  <dc:subject/>
  <dc:title>المنصف</dc:title>
</cp:coreProperties>
</file>