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DC17-45CF-4D25-9C14-FE1F2392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2DC-D0D4-447E-9814-069300C4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BA8-F755-4FF3-AAFF-27DB52CD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3D4-4A81-4589-9A6E-F7701C78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5670-6057-4DD6-85AE-253D3A11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762C-7A79-4DCC-BD5C-4CAEC17A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FD9C-D057-4737-AD55-2FC74C9A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4EA8-8B82-4270-A640-F6F38B49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35A8-C465-4E98-955B-83B12A2C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2142-74CE-444C-BDA2-73F29208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BA7E-4622-43DF-AE48-EB3C8DA5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8F8-4D0D-4F05-BB1A-FF5C2B33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A9FB-A8E4-44E1-9CD1-4165D916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39EC-4AA7-4973-8CA8-AFD89AE6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04E6-BBFA-42A8-A820-A6A7B593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36CC-3334-4E90-A58A-AC644B51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08EE-0F42-4633-A7B6-3BA3F151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2A6-8C29-4CC0-B354-DFB18118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E687-1CA9-4D21-BC11-ADE19C72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0BE-C3FE-41C0-926C-168CE7A3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C8F-CE87-41CC-92AD-18C5DE28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2E2-BB32-462E-AF37-3A54D148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C9F9-E7B9-43CD-AC6E-74EF69A1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054E-9497-4125-90CB-72668299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33f27"/>
                </a:gs>
                <a:gs pos="100000">
                  <a:srgbClr val="4d3b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533f27"/>
                </a:gs>
                <a:gs pos="100000">
                  <a:srgbClr val="674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C3DC-7161-4084-8DBC-9EC4190E8D43}" type="datetime">
              <a:rPr b="0" lang="ar-SA" sz="1200" spc="-1" strike="noStrike">
                <a:solidFill>
                  <a:srgbClr val="ffffff"/>
                </a:solidFill>
                <a:latin typeface="Tahoma"/>
              </a:rPr>
              <a:t>١٤٤٨/٠٢/١٥</a:t>
            </a:fld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 </a:t>
            </a:r>
            <a:fld id="{F314A6ED-4DA0-4499-88C6-3B91DE013B27}" type="datetime10">
              <a:rPr b="0" lang="ar-SA" sz="1200" spc="-1" strike="noStrike">
                <a:solidFill>
                  <a:srgbClr val="ffffff"/>
                </a:solidFill>
                <a:latin typeface="Tahoma"/>
              </a:rPr>
              <a:t>12:3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6B7B-F7FF-4BBA-BA9E-4DEF1B2463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33f27"/>
                </a:gs>
                <a:gs pos="100000">
                  <a:srgbClr val="46352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533f27"/>
                </a:gs>
                <a:gs pos="100000">
                  <a:srgbClr val="674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F066-3D42-4BE3-9A5E-293DA77DC5D3}" type="datetime">
              <a:rPr b="0" lang="ar-SA" sz="1200" spc="-1" strike="noStrike">
                <a:solidFill>
                  <a:srgbClr val="ffffff"/>
                </a:solidFill>
                <a:latin typeface="Tahoma"/>
              </a:rPr>
              <a:t>١٤٤٨/٠٢/١٥</a:t>
            </a:fld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 </a:t>
            </a:r>
            <a:fld id="{0AE04374-E18D-4147-9A25-D048DFB6053D}" type="datetime10">
              <a:rPr b="0" lang="ar-SA" sz="1200" spc="-1" strike="noStrike">
                <a:solidFill>
                  <a:srgbClr val="ffffff"/>
                </a:solidFill>
                <a:latin typeface="Tahoma"/>
              </a:rPr>
              <a:t>12:3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20BC-FBDB-4CE0-A302-2A70A5C9249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Gray968.pn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horacic_aorta" TargetMode="External"/><Relationship Id="rId2" Type="http://schemas.openxmlformats.org/officeDocument/2006/relationships/hyperlink" Target="http://en.wikipedia.org/wiki/Descending_aorta" TargetMode="External"/><Relationship Id="rId3" Type="http://schemas.openxmlformats.org/officeDocument/2006/relationships/hyperlink" Target="http://en.wikipedia.org/wiki/Azygos_vein" TargetMode="External"/><Relationship Id="rId4" Type="http://schemas.openxmlformats.org/officeDocument/2006/relationships/hyperlink" Target="http://en.wikipedia.org/wiki/Azygos_vein" TargetMode="External"/><Relationship Id="rId5" Type="http://schemas.openxmlformats.org/officeDocument/2006/relationships/hyperlink" Target="http://en.wikipedia.org/wiki/Hemiazygos_vein" TargetMode="External"/><Relationship Id="rId6" Type="http://schemas.openxmlformats.org/officeDocument/2006/relationships/hyperlink" Target="http://en.wikipedia.org/wiki/Hemiazygos_vein" TargetMode="External"/><Relationship Id="rId7" Type="http://schemas.openxmlformats.org/officeDocument/2006/relationships/hyperlink" Target="http://en.wikipedia.org/wiki/Accessory_hemiazygos_vein" TargetMode="External"/><Relationship Id="rId8" Type="http://schemas.openxmlformats.org/officeDocument/2006/relationships/hyperlink" Target="http://en.wikipedia.org/wiki/Accessory_hemiazygos_vein" TargetMode="External"/><Relationship Id="rId9" Type="http://schemas.openxmlformats.org/officeDocument/2006/relationships/hyperlink" Target="http://en.wikipedia.org/wiki/Accessory_hemiazygos_vein" TargetMode="External"/><Relationship Id="rId10" Type="http://schemas.openxmlformats.org/officeDocument/2006/relationships/hyperlink" Target="http://en.wikipedia.org/wiki/Vagus_nerve" TargetMode="External"/><Relationship Id="rId11" Type="http://schemas.openxmlformats.org/officeDocument/2006/relationships/hyperlink" Target="http://en.wikipedia.org/wiki/Vagus_nerve" TargetMode="External"/><Relationship Id="rId12" Type="http://schemas.openxmlformats.org/officeDocument/2006/relationships/hyperlink" Target="http://en.wikipedia.org/wiki/Splanchnic_nerves" TargetMode="External"/><Relationship Id="rId13" Type="http://schemas.openxmlformats.org/officeDocument/2006/relationships/hyperlink" Target="http://en.wikipedia.org/wiki/Splanchnic_nerves" TargetMode="External"/><Relationship Id="rId14" Type="http://schemas.openxmlformats.org/officeDocument/2006/relationships/hyperlink" Target="http://en.wikipedia.org/wiki/Sympathetic_chain" TargetMode="External"/><Relationship Id="rId15" Type="http://schemas.openxmlformats.org/officeDocument/2006/relationships/slide" Target=""/><Relationship Id="rId16" Type="http://schemas.openxmlformats.org/officeDocument/2006/relationships/hyperlink" Target="http://en.wikipedia.org/wiki/Esophagus" TargetMode="External"/><Relationship Id="rId17" Type="http://schemas.openxmlformats.org/officeDocument/2006/relationships/hyperlink" Target="http://en.wikipedia.org/wiki/Thoracic_duct" TargetMode="External"/><Relationship Id="rId18" Type="http://schemas.openxmlformats.org/officeDocument/2006/relationships/hyperlink" Target="http://en.wikipedia.org/wiki/Lymph_glands" TargetMode="External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ediastinum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eart" TargetMode="External"/><Relationship Id="rId2" Type="http://schemas.openxmlformats.org/officeDocument/2006/relationships/hyperlink" Target="http://en.wikipedia.org/wiki/Pericardium" TargetMode="External"/><Relationship Id="rId3" Type="http://schemas.openxmlformats.org/officeDocument/2006/relationships/hyperlink" Target="http://en.wikipedia.org/wiki/Ascending_aorta" TargetMode="External"/><Relationship Id="rId4" Type="http://schemas.openxmlformats.org/officeDocument/2006/relationships/hyperlink" Target="http://en.wikipedia.org/wiki/Superior_vena_cava" TargetMode="External"/><Relationship Id="rId5" Type="http://schemas.openxmlformats.org/officeDocument/2006/relationships/hyperlink" Target="http://en.wikipedia.org/wiki/Azygos_vein" TargetMode="External"/><Relationship Id="rId6" Type="http://schemas.openxmlformats.org/officeDocument/2006/relationships/hyperlink" Target="http://en.wikipedia.org/wiki/Azygos_vein" TargetMode="External"/><Relationship Id="rId7" Type="http://schemas.openxmlformats.org/officeDocument/2006/relationships/hyperlink" Target="http://en.wikipedia.org/wiki/Bifurcation_of_the_trachea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ericardium" TargetMode="External"/><Relationship Id="rId2" Type="http://schemas.openxmlformats.org/officeDocument/2006/relationships/hyperlink" Target="http://en.wikipedia.org/wiki/Diaphragm_(anatomy)" TargetMode="External"/><Relationship Id="rId3" Type="http://schemas.openxmlformats.org/officeDocument/2006/relationships/hyperlink" Target="http://en.wikipedia.org/wiki/Thoracic_plane" TargetMode="External"/><Relationship Id="rId4" Type="http://schemas.openxmlformats.org/officeDocument/2006/relationships/hyperlink" Target="http://en.wikipedia.org/wiki/Vertebral_column" TargetMode="External"/><Relationship Id="rId5" Type="http://schemas.openxmlformats.org/officeDocument/2006/relationships/hyperlink" Target="http://en.wikipedia.org/wiki/Thoracic_vertebra" TargetMode="External"/><Relationship Id="rId6" Type="http://schemas.openxmlformats.org/officeDocument/2006/relationships/hyperlink" Target="http://en.wikipedia.org/wiki/Mediastinal_pleura" TargetMode="External"/><Relationship Id="rId7" Type="http://schemas.openxmlformats.org/officeDocument/2006/relationships/hyperlink" Target="http://en.wikipedia.org/wiki/Mediastinal_pleura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5400" spc="-1" strike="noStrike">
                <a:solidFill>
                  <a:srgbClr val="d8b274"/>
                </a:solidFill>
                <a:latin typeface="Tahoma"/>
              </a:rPr>
              <a:t>المنصف</a:t>
            </a:r>
            <a:endParaRPr b="0" lang="en-US" sz="5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هو المنطقة المتوسطة من الجوف الصدري التي تفصل بين المنطقتين الرئويتين الجنبيت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3F3A-AC46-4229-8C0A-B4B7888918E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56FB5DD-A92A-4419-A6C1-2D73CDFC0CFD}" type="datetime8">
              <a:rPr lang="en-US"/>
              <a:t>07/29/26 12: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d8b274"/>
                </a:solidFill>
                <a:latin typeface="Tahoma"/>
              </a:rPr>
              <a:t>صورة لمحتويات المنصف المتوسط والخلفي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628640"/>
            <a:ext cx="4176720" cy="446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112C-1D59-41C6-809E-7F2D3F0175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AE176-8D45-4206-BCDE-957BE5FB8EE2}" type="datetime8">
              <a:rPr lang="en-US"/>
              <a:t>07/29/26 12: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Posterior mediastenum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er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thoracic part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f 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descending aorta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in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azygos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 vein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hemiazygos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 vein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accessory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hemiazygos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 vein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rve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vagus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 nerv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splanchnic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 nerves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t not 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sympathetic chain</a:t>
            </a:r>
            <a:r>
              <a:rPr b="0" lang="ar-SA" sz="2000" spc="-1" strike="noStrike" u="sng">
                <a:solidFill>
                  <a:srgbClr val="ffcc00"/>
                </a:solidFill>
                <a:uFillTx/>
                <a:latin typeface="Tahoma"/>
                <a:hlinkClick r:id="rId15" action="ppaction://hlinksldjump"/>
              </a:rPr>
              <a:t>]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esophagu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thoracic duct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lymph gland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8B6-3C0A-4F28-9E90-D8B7DCD4A1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F2299-96DD-473C-820E-D01FB14BA20D}" type="datetime8">
              <a:rPr lang="en-US"/>
              <a:t>07/29/26 12: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d8b274"/>
                </a:solidFill>
                <a:latin typeface="Tahoma"/>
              </a:rPr>
              <a:t>المنصف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 u="sng">
                <a:solidFill>
                  <a:srgbClr val="ffffff"/>
                </a:solidFill>
                <a:uFillTx/>
                <a:latin typeface="Tahoma"/>
              </a:rPr>
              <a:t>الحدود  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من الامام  : السطح الخلفي لعظم القص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من الخلف : الوجه للفقرات الصدرية الاربعة العلوية الامام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من الاعلى : مدخل الصدر وقمة الرئتين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من الاسفل : الحجاب الحاجز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4181-85A7-4EB2-8889-C3A6CACCD3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33F38-C899-4BBE-86DD-9DD9D89497BE}" type="datetime8">
              <a:rPr lang="en-US"/>
              <a:t>07/29/26 12: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342432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238-635C-45F4-9E45-57C5091761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C87E1-0C25-45CA-9FB0-A6BCAB94F817}" type="datetime8">
              <a:rPr lang="en-US"/>
              <a:t>07/29/26 12: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314316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A64C-9400-45C6-98CE-14AB412297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6A4A3-FBAB-47EC-A6AF-99EA2217B281}" type="datetime8">
              <a:rPr lang="en-US"/>
              <a:t>07/29/26 12: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d8b274"/>
                </a:solidFill>
                <a:latin typeface="Tahoma"/>
              </a:rPr>
              <a:t>اقسام المنصف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اقسام المنص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557360"/>
            <a:ext cx="31687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7AD-3DEB-4B27-B994-F64963A0B7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6EBEB-3321-481E-9226-61DAC9CFFF03}" type="datetime8">
              <a:rPr lang="en-US"/>
              <a:t>07/29/26 12: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400" spc="-1" strike="noStrike">
                <a:solidFill>
                  <a:srgbClr val="d8b274"/>
                </a:solidFill>
                <a:latin typeface="Tahoma"/>
              </a:rPr>
              <a:t>اقسام المنصف 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يقسم المنصف بخط وهمي  يبدأ من زاوية عظم القص من الامام الى الحافة السفلية من جسم الفقرة الصدرية الرابعة في الخلف الى قسمين  : علوي وسفلي . وبخطين وهميين يقعان امام وخلف التامور يقسمان المنصف السفلي الى ثلاثة اقسام : امامي ( امام القلب 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   متوسط ( القلب والرغامى والأوعية الاساسية 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   خلفي   ( خلف القلب )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حديثا يقسم المنصف فقط الى : امامي ومتوسط وخلف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FACA-0A4C-4798-ABEE-14C3587CB6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53E33-C914-49C2-A04C-26BDB72DCAC2}" type="datetime8">
              <a:rPr lang="en-US"/>
              <a:t>07/29/26 12: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d8b274"/>
                </a:solidFill>
                <a:latin typeface="Tahoma"/>
              </a:rPr>
              <a:t>محتويات المنصف </a:t>
            </a:r>
            <a:br>
              <a:rPr sz="4000"/>
            </a:br>
            <a:r>
              <a:rPr b="0" lang="ar-SY" sz="4000" spc="-1" strike="noStrike">
                <a:solidFill>
                  <a:srgbClr val="d8b274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d8b274"/>
                </a:solidFill>
                <a:latin typeface="Tahoma"/>
              </a:rPr>
              <a:t>anterior mediastinum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arrow nearly potential space between the pericardium posteriorly and the sternum anterior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contains the thymus or its remnants, some lymph nodes, and the vessels and branches of the internal thoracic arte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F214-2784-4831-8083-DBEA2F40A6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E5DDA-578C-4565-A534-B567BB9368D1}" type="datetime8">
              <a:rPr lang="en-US"/>
              <a:t>07/29/26 12: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b274"/>
                </a:solidFill>
                <a:latin typeface="Tahoma"/>
              </a:rPr>
              <a:t>middle mediastinum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iddle mediastinum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 the broadest part of the interpleural spac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is made up of the pericardial sac and its contents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contains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eart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closed in 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pericardium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ascending aorta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lower half of 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superior vena cava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th 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azygos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 vein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ening into it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bifurcation of the trachea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the two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ronchi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lmonary artery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viding into its two branches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ight and left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lmonary veins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hrenic nerves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me bronchial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ymphatic glands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1F64-CB10-458F-BFF2-4D649064EE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76490-EF9C-404A-9D0F-4A34E53B4992}" type="datetime8">
              <a:rPr lang="en-US"/>
              <a:t>07/29/26 12: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Posterior mediastenum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ounda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is bounded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eriorally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pericardium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front of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riorally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diaphragm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ow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eriorally by the transvers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thoracic plan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v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)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plane is marked by an imaginary line travelling through the manubriosternal joint to the dividing line between the fourth and fifth thoracic vertebra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eriorally by the bodies of th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vertebral colum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m the lower border of the fourth to the twelfth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thoracic vertebra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hind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rally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mediastinal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 pleura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either sid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استاذ الدكتور قدري الحاج مصطفى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B6E2-95A5-43B2-94BE-C2D6329459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4B55F-E33C-47C6-932D-D243A093B2E0}" type="datetime8">
              <a:rPr lang="en-US"/>
              <a:t>07/29/26 12: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0:59:01Z</dcterms:created>
  <dc:creator>د.قدري الحاج مصطفى</dc:creator>
  <dc:description/>
  <dc:language>en-US</dc:language>
  <cp:lastModifiedBy>د.قدري الحاج مصطفى</cp:lastModifiedBy>
  <dcterms:modified xsi:type="dcterms:W3CDTF">2009-01-24T18:43:08Z</dcterms:modified>
  <cp:revision>24</cp:revision>
  <dc:subject/>
  <dc:title>المنصف</dc:title>
</cp:coreProperties>
</file>