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007-7A7F-4940-AF3B-2790DE9E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001-832D-4490-A033-38EF4E8B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B36-CC89-4B64-A83F-922ED696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9D4-EBB1-41D2-845E-ACE35D6A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672-14B7-4DA4-90CC-0FC65976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B7F-1BFA-48A6-8593-B6D79086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E70-8F74-44BD-BB20-44664F88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765-3E2F-4804-9B0E-703D7CD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F1F-4BE5-4CFC-9903-1805B349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E39-4737-449E-A20E-E0E8793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80C-865E-4699-B342-1642110D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76B-F615-4AB2-9F2A-1FBF57D8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413AF-B7BD-4519-8344-C14021052C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4CC22-0F2E-411D-B8D3-67D9E0C4F1D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5:58:06Z</dcterms:created>
  <dc:creator>최봉수</dc:creator>
  <dc:description/>
  <dc:language>en-US</dc:language>
  <cp:lastModifiedBy>맛있다 군만두</cp:lastModifiedBy>
  <dcterms:modified xsi:type="dcterms:W3CDTF">2023-07-13T08:22:30Z</dcterms:modified>
  <cp:revision>3</cp:revision>
  <dc:subject/>
  <dc:title>슬라이드 1</dc:title>
</cp:coreProperties>
</file>