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578-32F2-435B-9A48-3131B462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5DC-E11F-4B90-9FD8-6E2208A0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807-6ECF-4D77-9A0C-BC41CCF0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9EF-D999-4BDF-9868-E1155E76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2E2-ADD2-4BC0-A8D3-955DC651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7A0-2908-425F-A40E-5630D97E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9F6-CEEF-4E61-A6EB-344CC264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7B8-4537-4816-96AA-E71CE84F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B86-AFBE-4F72-A69B-465AA3B0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DA8-EE73-46A0-9521-30C61457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454-C6FE-4FD5-906D-B03F6DA7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C10-F468-4E2D-9CA4-35122BF8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CA5CF-55F9-436B-AAD1-7DD0DC1A7E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93962-4DAD-46D6-B942-C556939FB08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5:58:06Z</dcterms:created>
  <dc:creator>최봉수</dc:creator>
  <dc:description/>
  <dc:language>en-US</dc:language>
  <cp:lastModifiedBy>맛있다 군만두</cp:lastModifiedBy>
  <dcterms:modified xsi:type="dcterms:W3CDTF">2023-07-13T08:22:30Z</dcterms:modified>
  <cp:revision>3</cp:revision>
  <dc:subject/>
  <dc:title>슬라이드 1</dc:title>
</cp:coreProperties>
</file>