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C51-D404-408B-9C89-546E8B43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266-D0DC-4347-B053-1B14552C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DCE-5C5C-4F65-AFD0-118A4BA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B22-15FB-4736-855A-34021671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306-2F3B-4176-9960-3B4FE6F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0F1-E2DC-4692-BE8B-71606E0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FDB-DFAF-4DFF-B721-FACEA315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A1C-36EB-4FBF-A0AF-BDD7CAA7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996-4AAF-40A8-872D-68E32EB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C08-BFED-427E-BCBE-45107450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91E-EB24-470B-A9F1-1091F25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1AC-4FDE-4DDE-BDE0-62AA1F5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4FA90-8AD1-4E3E-826C-AB89F89520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8AB94-AC1F-474C-ADB5-6C3910153BA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4-10-01T02:41:09Z</dcterms:modified>
  <cp:revision>3</cp:revision>
  <dc:subject/>
  <dc:title>슬라이드 1</dc:title>
</cp:coreProperties>
</file>