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C496-8757-4393-A05F-B02BD5E30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7D1D-C1CF-419C-8DA4-D723B8208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F0C2-EB06-4C32-88FD-299BC2994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36E8-2764-460D-996F-5FF87B77D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E5B7-B4B5-4221-A8FD-E3290BF9B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79F7-E1D9-43D3-8C47-722E2FA0D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AB45-20ED-47D8-AF41-175F34EE6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2593-F0A6-43FE-ABB1-13E532BAF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A030-EE7E-4462-88F5-6F5E93840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1DA2-32B5-44B9-8EE0-762137DEB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E5B5-BAEB-4E5A-985B-F306496E5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AEFA-B70B-4CE5-A8EA-B6D410CA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CA9840-ECC5-4C24-9D8D-764F759B4F8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20AC52-B335-412A-A186-820767E0238A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image" Target="../media/image3.png"/><Relationship Id="rId6" Type="http://schemas.openxmlformats.org/officeDocument/2006/relationships/slide" Target="slide5.xml"/><Relationship Id="rId7" Type="http://schemas.openxmlformats.org/officeDocument/2006/relationships/slide" Target="slide3.xml"/><Relationship Id="rId8" Type="http://schemas.openxmlformats.org/officeDocument/2006/relationships/image" Target="../media/image3.png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1.xml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9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10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1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/>
            <p:cNvPicPr/>
            <p:nvPr/>
          </p:nvPicPr>
          <p:blipFill>
            <a:blip r:embed="rId5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6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2T02:29:01Z</dcterms:created>
  <dc:creator>최봉수</dc:creator>
  <dc:description/>
  <dc:language>en-US</dc:language>
  <cp:lastModifiedBy>맛있다 군만두</cp:lastModifiedBy>
  <dcterms:modified xsi:type="dcterms:W3CDTF">2024-10-01T02:41:09Z</dcterms:modified>
  <cp:revision>3</cp:revision>
  <dc:subject/>
  <dc:title>슬라이드 1</dc:title>
</cp:coreProperties>
</file>