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5.gif" ContentType="image/gif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476-790B-4184-A574-F789E0F6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1A4-F316-42C0-BB0C-50514FD0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AEF-5835-4562-AEAB-B569812A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186-0E0F-4ABC-9ED8-182A27A0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A98-A49D-44E4-BED8-0766F43E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7AF-23DE-48A8-B231-A9B50092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96F-ED3C-42BD-A58B-BBC1C946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790-89B1-4420-9D64-A1905D88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556-09E2-4CFB-AB0A-9ED3FD82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623-861A-4848-944B-7B007C5C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EAE-EA6D-431E-A434-5AA6D8DF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428-EE98-412F-A9DA-8F00FE2D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9513-1529-4E53-B737-DA827E13D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7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8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9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0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1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2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3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4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2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3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5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" y="692280"/>
            <a:ext cx="8437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York man retired. He wanted to use his ret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wisely, so it would last, and decided to buy a home an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w acres in Portugal. The modest farmhouse had been vaca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years.; the owner and wife both had died, and there were no hei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ouse was sold to pay taxes. There had been several look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 large barn had steel doors, and they had been wel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ut. Nobody wanted to go to the extra expense to see what w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rn, and it wasn't complimentary to the property anyway......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body made an offer on the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 York guy bought it at just over half of the property's worth, 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, and set about to tear in to the barn.......curiosity was killing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he and his wife bought a generator, and a couple of  grinders.......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  thru the w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in the barn.............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117440" y="5610240"/>
          <a:ext cx="1924200" cy="517680"/>
        </p:xfrm>
        <a:graphic>
          <a:graphicData uri="http://schemas.openxmlformats.org/drawingml/2006/table">
            <a:tbl>
              <a:tblPr/>
              <a:tblGrid>
                <a:gridCol w="1924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27160" y="5619600"/>
          <a:ext cx="2628720" cy="517680"/>
        </p:xfrm>
        <a:graphic>
          <a:graphicData uri="http://schemas.openxmlformats.org/drawingml/2006/table">
            <a:tbl>
              <a:tblPr/>
              <a:tblGrid>
                <a:gridCol w="262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136520" y="5629320"/>
          <a:ext cx="2629080" cy="517320"/>
        </p:xfrm>
        <a:graphic>
          <a:graphicData uri="http://schemas.openxmlformats.org/drawingml/2006/table">
            <a:tbl>
              <a:tblPr/>
              <a:tblGrid>
                <a:gridCol w="262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146240" y="5703840"/>
          <a:ext cx="2628720" cy="365040"/>
        </p:xfrm>
        <a:graphic>
          <a:graphicData uri="http://schemas.openxmlformats.org/drawingml/2006/table">
            <a:tbl>
              <a:tblPr/>
              <a:tblGrid>
                <a:gridCol w="2628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cia Flaminia Coupé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17440" y="5610240"/>
          <a:ext cx="1924200" cy="517680"/>
        </p:xfrm>
        <a:graphic>
          <a:graphicData uri="http://schemas.openxmlformats.org/drawingml/2006/table">
            <a:tbl>
              <a:tblPr/>
              <a:tblGrid>
                <a:gridCol w="1924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27160" y="5619600"/>
          <a:ext cx="2628720" cy="517680"/>
        </p:xfrm>
        <a:graphic>
          <a:graphicData uri="http://schemas.openxmlformats.org/drawingml/2006/table">
            <a:tbl>
              <a:tblPr/>
              <a:tblGrid>
                <a:gridCol w="262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136520" y="5629320"/>
          <a:ext cx="2629080" cy="517320"/>
        </p:xfrm>
        <a:graphic>
          <a:graphicData uri="http://schemas.openxmlformats.org/drawingml/2006/table">
            <a:tbl>
              <a:tblPr/>
              <a:tblGrid>
                <a:gridCol w="262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146240" y="5703840"/>
          <a:ext cx="2628720" cy="365040"/>
        </p:xfrm>
        <a:graphic>
          <a:graphicData uri="http://schemas.openxmlformats.org/drawingml/2006/table">
            <a:tbl>
              <a:tblPr/>
              <a:tblGrid>
                <a:gridCol w="2628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arth 1300 Scorpion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17440" y="5610240"/>
          <a:ext cx="1542960" cy="517680"/>
        </p:xfrm>
        <a:graphic>
          <a:graphicData uri="http://schemas.openxmlformats.org/drawingml/2006/table">
            <a:tbl>
              <a:tblPr/>
              <a:tblGrid>
                <a:gridCol w="1542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27160" y="5619600"/>
          <a:ext cx="3009960" cy="51768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136520" y="5629320"/>
          <a:ext cx="3009960" cy="51732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146240" y="5703840"/>
          <a:ext cx="3009960" cy="36504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rican (inspired) desig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117440" y="5610240"/>
          <a:ext cx="2038320" cy="517680"/>
        </p:xfrm>
        <a:graphic>
          <a:graphicData uri="http://schemas.openxmlformats.org/drawingml/2006/table">
            <a:tbl>
              <a:tblPr/>
              <a:tblGrid>
                <a:gridCol w="203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27160" y="5619600"/>
          <a:ext cx="2514600" cy="5176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136520" y="5629320"/>
          <a:ext cx="2514600" cy="5173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146240" y="5703840"/>
          <a:ext cx="2514600" cy="36504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ior of Alfa Rome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117440" y="5610240"/>
          <a:ext cx="6585120" cy="517680"/>
        </p:xfrm>
        <a:graphic>
          <a:graphicData uri="http://schemas.openxmlformats.org/drawingml/2006/table">
            <a:tbl>
              <a:tblPr/>
              <a:tblGrid>
                <a:gridCol w="658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127160" y="5619600"/>
          <a:ext cx="6566040" cy="517680"/>
        </p:xfrm>
        <a:graphic>
          <a:graphicData uri="http://schemas.openxmlformats.org/drawingml/2006/table">
            <a:tbl>
              <a:tblPr/>
              <a:tblGrid>
                <a:gridCol w="656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136520" y="5629320"/>
          <a:ext cx="6566040" cy="517320"/>
        </p:xfrm>
        <a:graphic>
          <a:graphicData uri="http://schemas.openxmlformats.org/drawingml/2006/table">
            <a:tbl>
              <a:tblPr/>
              <a:tblGrid>
                <a:gridCol w="6566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146240" y="5703840"/>
          <a:ext cx="6565680" cy="365040"/>
        </p:xfrm>
        <a:graphic>
          <a:graphicData uri="http://schemas.openxmlformats.org/drawingml/2006/table">
            <a:tbl>
              <a:tblPr/>
              <a:tblGrid>
                <a:gridCol w="6565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cia Flaminia Coupé, Peugeot 504 cabriolet &amp; 404 cabriole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117440" y="5610240"/>
          <a:ext cx="679320" cy="517680"/>
        </p:xfrm>
        <a:graphic>
          <a:graphicData uri="http://schemas.openxmlformats.org/drawingml/2006/table">
            <a:tbl>
              <a:tblPr/>
              <a:tblGrid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127160" y="5619600"/>
          <a:ext cx="3873600" cy="517680"/>
        </p:xfrm>
        <a:graphic>
          <a:graphicData uri="http://schemas.openxmlformats.org/drawingml/2006/table">
            <a:tbl>
              <a:tblPr/>
              <a:tblGrid>
                <a:gridCol w="387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136520" y="5629320"/>
          <a:ext cx="3873600" cy="517320"/>
        </p:xfrm>
        <a:graphic>
          <a:graphicData uri="http://schemas.openxmlformats.org/drawingml/2006/table">
            <a:tbl>
              <a:tblPr/>
              <a:tblGrid>
                <a:gridCol w="387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146240" y="5703840"/>
          <a:ext cx="3873600" cy="365040"/>
        </p:xfrm>
        <a:graphic>
          <a:graphicData uri="http://schemas.openxmlformats.org/drawingml/2006/table">
            <a:tbl>
              <a:tblPr/>
              <a:tblGrid>
                <a:gridCol w="3873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, Alfa 1900 Super Sprint, Balill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117440" y="5610240"/>
          <a:ext cx="4705200" cy="517680"/>
        </p:xfrm>
        <a:graphic>
          <a:graphicData uri="http://schemas.openxmlformats.org/drawingml/2006/table">
            <a:tbl>
              <a:tblPr/>
              <a:tblGrid>
                <a:gridCol w="4705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27160" y="5619600"/>
          <a:ext cx="4686120" cy="517680"/>
        </p:xfrm>
        <a:graphic>
          <a:graphicData uri="http://schemas.openxmlformats.org/drawingml/2006/table">
            <a:tbl>
              <a:tblPr/>
              <a:tblGrid>
                <a:gridCol w="4686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136520" y="5629320"/>
          <a:ext cx="4686480" cy="517320"/>
        </p:xfrm>
        <a:graphic>
          <a:graphicData uri="http://schemas.openxmlformats.org/drawingml/2006/table">
            <a:tbl>
              <a:tblPr/>
              <a:tblGrid>
                <a:gridCol w="4686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146240" y="5703840"/>
          <a:ext cx="4686120" cy="365040"/>
        </p:xfrm>
        <a:graphic>
          <a:graphicData uri="http://schemas.openxmlformats.org/drawingml/2006/table">
            <a:tbl>
              <a:tblPr/>
              <a:tblGrid>
                <a:gridCol w="4686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at Topolino II, Triumph TR4, Peugeot 20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117440" y="5610240"/>
          <a:ext cx="6330960" cy="517680"/>
        </p:xfrm>
        <a:graphic>
          <a:graphicData uri="http://schemas.openxmlformats.org/drawingml/2006/table">
            <a:tbl>
              <a:tblPr/>
              <a:tblGrid>
                <a:gridCol w="6330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127160" y="5619600"/>
          <a:ext cx="6311880" cy="51768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136520" y="5629320"/>
          <a:ext cx="6311880" cy="51732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146240" y="5703840"/>
          <a:ext cx="6311880" cy="36504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MW V8, Formula racers, Chryslers, Mercedes, Austin A3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117440" y="5610240"/>
          <a:ext cx="6330960" cy="517680"/>
        </p:xfrm>
        <a:graphic>
          <a:graphicData uri="http://schemas.openxmlformats.org/drawingml/2006/table">
            <a:tbl>
              <a:tblPr/>
              <a:tblGrid>
                <a:gridCol w="6330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127160" y="5619600"/>
          <a:ext cx="6311880" cy="51768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136520" y="5629320"/>
          <a:ext cx="6311880" cy="51732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146240" y="5703840"/>
          <a:ext cx="6311880" cy="365040"/>
        </p:xfrm>
        <a:graphic>
          <a:graphicData uri="http://schemas.openxmlformats.org/drawingml/2006/table">
            <a:tbl>
              <a:tblPr/>
              <a:tblGrid>
                <a:gridCol w="6311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MW V8, Formula racers, Chryslers, Mercedes, Austin A3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117440" y="5610240"/>
          <a:ext cx="3193920" cy="517680"/>
        </p:xfrm>
        <a:graphic>
          <a:graphicData uri="http://schemas.openxmlformats.org/drawingml/2006/table">
            <a:tbl>
              <a:tblPr/>
              <a:tblGrid>
                <a:gridCol w="319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035080" y="5619600"/>
          <a:ext cx="1359000" cy="517680"/>
        </p:xfrm>
        <a:graphic>
          <a:graphicData uri="http://schemas.openxmlformats.org/drawingml/2006/table">
            <a:tbl>
              <a:tblPr/>
              <a:tblGrid>
                <a:gridCol w="135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044800" y="5629320"/>
          <a:ext cx="1358640" cy="517320"/>
        </p:xfrm>
        <a:graphic>
          <a:graphicData uri="http://schemas.openxmlformats.org/drawingml/2006/table">
            <a:tbl>
              <a:tblPr/>
              <a:tblGrid>
                <a:gridCol w="1358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054160" y="5703840"/>
          <a:ext cx="1359000" cy="365040"/>
        </p:xfrm>
        <a:graphic>
          <a:graphicData uri="http://schemas.openxmlformats.org/drawingml/2006/table">
            <a:tbl>
              <a:tblPr/>
              <a:tblGrid>
                <a:gridCol w="1359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Barn..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22760" y="344808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4616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4616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04616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04616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04616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046160" y="5610240"/>
          <a:ext cx="7042320" cy="517680"/>
        </p:xfrm>
        <a:graphic>
          <a:graphicData uri="http://schemas.openxmlformats.org/drawingml/2006/table">
            <a:tbl>
              <a:tblPr/>
              <a:tblGrid>
                <a:gridCol w="704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552780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55520" y="5619600"/>
          <a:ext cx="7023240" cy="517680"/>
        </p:xfrm>
        <a:graphic>
          <a:graphicData uri="http://schemas.openxmlformats.org/drawingml/2006/table">
            <a:tbl>
              <a:tblPr/>
              <a:tblGrid>
                <a:gridCol w="7023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065240" y="5629320"/>
          <a:ext cx="7023240" cy="517320"/>
        </p:xfrm>
        <a:graphic>
          <a:graphicData uri="http://schemas.openxmlformats.org/drawingml/2006/table">
            <a:tbl>
              <a:tblPr/>
              <a:tblGrid>
                <a:gridCol w="7023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074600" y="5703840"/>
          <a:ext cx="7023240" cy="365040"/>
        </p:xfrm>
        <a:graphic>
          <a:graphicData uri="http://schemas.openxmlformats.org/drawingml/2006/table">
            <a:tbl>
              <a:tblPr/>
              <a:tblGrid>
                <a:gridCol w="7023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doors were welded shut, but an angle grinder took care of tha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20168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7736040" y="136440"/>
            <a:ext cx="114120" cy="57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1201680" y="5289480"/>
            <a:ext cx="5724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7736040" y="5289480"/>
            <a:ext cx="1141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6096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903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4360" y="90360"/>
            <a:ext cx="114120" cy="4419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4360" y="903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8436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68436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84360" y="5610240"/>
          <a:ext cx="7765920" cy="517680"/>
        </p:xfrm>
        <a:graphic>
          <a:graphicData uri="http://schemas.openxmlformats.org/drawingml/2006/table">
            <a:tbl>
              <a:tblPr/>
              <a:tblGrid>
                <a:gridCol w="776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516564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93720" y="5619600"/>
          <a:ext cx="7746840" cy="517680"/>
        </p:xfrm>
        <a:graphic>
          <a:graphicData uri="http://schemas.openxmlformats.org/drawingml/2006/table">
            <a:tbl>
              <a:tblPr/>
              <a:tblGrid>
                <a:gridCol w="7746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703440" y="5629320"/>
          <a:ext cx="7746840" cy="517320"/>
        </p:xfrm>
        <a:graphic>
          <a:graphicData uri="http://schemas.openxmlformats.org/drawingml/2006/table">
            <a:tbl>
              <a:tblPr/>
              <a:tblGrid>
                <a:gridCol w="7746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12800" y="5703840"/>
          <a:ext cx="7746840" cy="365040"/>
        </p:xfrm>
        <a:graphic>
          <a:graphicData uri="http://schemas.openxmlformats.org/drawingml/2006/table">
            <a:tbl>
              <a:tblPr/>
              <a:tblGrid>
                <a:gridCol w="7746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at Cabriolet (1200 or 1500), Ford Cortina MKII, Mercedes Benz 180/19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83988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737388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83988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737388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117440" y="5610240"/>
          <a:ext cx="2508120" cy="517680"/>
        </p:xfrm>
        <a:graphic>
          <a:graphicData uri="http://schemas.openxmlformats.org/drawingml/2006/table">
            <a:tbl>
              <a:tblPr/>
              <a:tblGrid>
                <a:gridCol w="250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9280" y="5619600"/>
          <a:ext cx="2044800" cy="517680"/>
        </p:xfrm>
        <a:graphic>
          <a:graphicData uri="http://schemas.openxmlformats.org/drawingml/2006/table">
            <a:tbl>
              <a:tblPr/>
              <a:tblGrid>
                <a:gridCol w="204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359000" y="5629320"/>
          <a:ext cx="2044440" cy="517320"/>
        </p:xfrm>
        <a:graphic>
          <a:graphicData uri="http://schemas.openxmlformats.org/drawingml/2006/table">
            <a:tbl>
              <a:tblPr/>
              <a:tblGrid>
                <a:gridCol w="204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368360" y="5703840"/>
          <a:ext cx="2044800" cy="365040"/>
        </p:xfrm>
        <a:graphic>
          <a:graphicData uri="http://schemas.openxmlformats.org/drawingml/2006/table">
            <a:tbl>
              <a:tblPr/>
              <a:tblGrid>
                <a:gridCol w="2044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ton Martin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7356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6960" y="903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96960" y="90360"/>
            <a:ext cx="114120" cy="4419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96960" y="903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9696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9696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96960" y="5610240"/>
          <a:ext cx="7740720" cy="517680"/>
        </p:xfrm>
        <a:graphic>
          <a:graphicData uri="http://schemas.openxmlformats.org/drawingml/2006/table">
            <a:tbl>
              <a:tblPr/>
              <a:tblGrid>
                <a:gridCol w="774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517860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6320" y="5619600"/>
          <a:ext cx="7721640" cy="517680"/>
        </p:xfrm>
        <a:graphic>
          <a:graphicData uri="http://schemas.openxmlformats.org/drawingml/2006/table">
            <a:tbl>
              <a:tblPr/>
              <a:tblGrid>
                <a:gridCol w="772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16040" y="5629320"/>
          <a:ext cx="7721640" cy="517320"/>
        </p:xfrm>
        <a:graphic>
          <a:graphicData uri="http://schemas.openxmlformats.org/drawingml/2006/table">
            <a:tbl>
              <a:tblPr/>
              <a:tblGrid>
                <a:gridCol w="772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25400" y="5703840"/>
          <a:ext cx="7721640" cy="365040"/>
        </p:xfrm>
        <a:graphic>
          <a:graphicData uri="http://schemas.openxmlformats.org/drawingml/2006/table">
            <a:tbl>
              <a:tblPr/>
              <a:tblGrid>
                <a:gridCol w="7721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l GT, Lotus Elan FHC, Lotus Super Seven Series IV, Lotus Elan DH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5248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738648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852480" y="5289480"/>
            <a:ext cx="57240" cy="11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738648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117440" y="5610240"/>
          <a:ext cx="6673680" cy="517680"/>
        </p:xfrm>
        <a:graphic>
          <a:graphicData uri="http://schemas.openxmlformats.org/drawingml/2006/table">
            <a:tbl>
              <a:tblPr/>
              <a:tblGrid>
                <a:gridCol w="6673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27160" y="5619600"/>
          <a:ext cx="6654600" cy="517680"/>
        </p:xfrm>
        <a:graphic>
          <a:graphicData uri="http://schemas.openxmlformats.org/drawingml/2006/table">
            <a:tbl>
              <a:tblPr/>
              <a:tblGrid>
                <a:gridCol w="665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136520" y="5629320"/>
          <a:ext cx="6654960" cy="517320"/>
        </p:xfrm>
        <a:graphic>
          <a:graphicData uri="http://schemas.openxmlformats.org/drawingml/2006/table">
            <a:tbl>
              <a:tblPr/>
              <a:tblGrid>
                <a:gridCol w="6654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146240" y="5703840"/>
          <a:ext cx="6654600" cy="365040"/>
        </p:xfrm>
        <a:graphic>
          <a:graphicData uri="http://schemas.openxmlformats.org/drawingml/2006/table">
            <a:tbl>
              <a:tblPr/>
              <a:tblGrid>
                <a:gridCol w="6654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sche 356, Austin Healey Sprite MkII, Volvo PV 544, Ford Y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9440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11744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11744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11744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11744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117440" y="5610240"/>
          <a:ext cx="6622920" cy="517680"/>
        </p:xfrm>
        <a:graphic>
          <a:graphicData uri="http://schemas.openxmlformats.org/drawingml/2006/table">
            <a:tbl>
              <a:tblPr/>
              <a:tblGrid>
                <a:gridCol w="662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559908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27160" y="5619600"/>
          <a:ext cx="6603840" cy="517680"/>
        </p:xfrm>
        <a:graphic>
          <a:graphicData uri="http://schemas.openxmlformats.org/drawingml/2006/table">
            <a:tbl>
              <a:tblPr/>
              <a:tblGrid>
                <a:gridCol w="6603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136520" y="5629320"/>
          <a:ext cx="6604200" cy="517320"/>
        </p:xfrm>
        <a:graphic>
          <a:graphicData uri="http://schemas.openxmlformats.org/drawingml/2006/table">
            <a:tbl>
              <a:tblPr/>
              <a:tblGrid>
                <a:gridCol w="6604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146240" y="5703840"/>
          <a:ext cx="6603840" cy="365040"/>
        </p:xfrm>
        <a:graphic>
          <a:graphicData uri="http://schemas.openxmlformats.org/drawingml/2006/table">
            <a:tbl>
              <a:tblPr/>
              <a:tblGrid>
                <a:gridCol w="6603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ulietta Sprint, Giulia Sprint Speciale (SS), Nash Metropolit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127332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807320" y="136440"/>
            <a:ext cx="114480" cy="57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127332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7807320" y="528948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586480" y="344808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10952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109520" y="90360"/>
            <a:ext cx="114480" cy="4419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109520" y="903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1109520" y="90360"/>
            <a:ext cx="59436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1109520" y="90360"/>
          <a:ext cx="6908760" cy="5519880"/>
        </p:xfrm>
        <a:graphic>
          <a:graphicData uri="http://schemas.openxmlformats.org/drawingml/2006/table">
            <a:tbl>
              <a:tblPr/>
              <a:tblGrid>
                <a:gridCol w="6534000"/>
                <a:gridCol w="374760"/>
              </a:tblGrid>
              <a:tr h="515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7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109520" y="5610240"/>
          <a:ext cx="6915240" cy="517680"/>
        </p:xfrm>
        <a:graphic>
          <a:graphicData uri="http://schemas.openxmlformats.org/drawingml/2006/table">
            <a:tbl>
              <a:tblPr/>
              <a:tblGrid>
                <a:gridCol w="6915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5591160" y="6127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19240" y="5619600"/>
          <a:ext cx="6896160" cy="517680"/>
        </p:xfrm>
        <a:graphic>
          <a:graphicData uri="http://schemas.openxmlformats.org/drawingml/2006/table">
            <a:tbl>
              <a:tblPr/>
              <a:tblGrid>
                <a:gridCol w="689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128600" y="5629320"/>
          <a:ext cx="6896160" cy="517320"/>
        </p:xfrm>
        <a:graphic>
          <a:graphicData uri="http://schemas.openxmlformats.org/drawingml/2006/table">
            <a:tbl>
              <a:tblPr/>
              <a:tblGrid>
                <a:gridCol w="689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38320" y="5703840"/>
          <a:ext cx="6896160" cy="365040"/>
        </p:xfrm>
        <a:graphic>
          <a:graphicData uri="http://schemas.openxmlformats.org/drawingml/2006/table">
            <a:tbl>
              <a:tblPr/>
              <a:tblGrid>
                <a:gridCol w="6896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fa Giulietta, Lotus Europa, another Lotus Elan FHC, Matra Djet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265400" y="3348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7799400" y="136440"/>
            <a:ext cx="114120" cy="57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1265400" y="5289480"/>
            <a:ext cx="56880" cy="114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7799400" y="5289480"/>
            <a:ext cx="11412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5:58:36Z</dcterms:created>
  <dc:creator>ShauSaay</dc:creator>
  <dc:description/>
  <dc:language>en-US</dc:language>
  <cp:lastModifiedBy>Smets</cp:lastModifiedBy>
  <dcterms:modified xsi:type="dcterms:W3CDTF">2008-10-04T18:02:51Z</dcterms:modified>
  <cp:revision>7</cp:revision>
  <dc:subject/>
  <dc:title>Barn</dc:title>
</cp:coreProperties>
</file>