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25.gif" ContentType="image/gif"/>
  <Override PartName="/ppt/media/image13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CA23-0A50-4513-BE8C-1E7CBD21D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A827-438C-490B-A594-826100F0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DFB3-D0BA-4900-844E-DA60DAC9A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E960-7D64-46F7-883B-8C4EC9615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8A22-0853-4ADA-AF04-6AFF9F62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2E77-13ED-4707-8CCA-52E5BC54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1D7F-D315-43A5-BBE9-DA6C31C8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8877-D134-482C-9288-4F459F49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0C28-E1E3-4611-90A5-0ECAE55D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3887-73A3-4736-BC14-35C44722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24A4-549A-4675-B7B7-C5DBD0AD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BA52-DF7A-4DD1-B861-A0F2331A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8242-CF62-41A9-96D0-ACD45E47F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6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7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8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9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0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1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2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3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4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25.gif"/><Relationship Id="rId11" Type="http://schemas.openxmlformats.org/officeDocument/2006/relationships/image" Target="../media/image25.gif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9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0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1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2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3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4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5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0040" y="692280"/>
            <a:ext cx="84376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New York man retired. He wanted to use his ret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ey wisely, so it would last, and decided to buy a home and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w acres in Portugal. The modest farmhouse had been vacant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years.; the owner and wife both had died, and there were no hei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house was sold to pay taxes. There had been several looker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the large barn had steel doors, and they had been wel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ut. Nobody wanted to go to the extra expense to see what wa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arn, and it wasn't complimentary to the property anyway......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body made an offer on the pl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ew York guy bought it at just over half of the property's worth, m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, and set about to tear in to the barn.......curiosity was killing hi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, he and his wife bought a generator, and a couple of  grinders.......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t  thru the wel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was in the barn..............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594400" y="344808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1117440" y="90360"/>
            <a:ext cx="114480" cy="4419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1117440" y="90360"/>
            <a:ext cx="5943600" cy="11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"/>
          <p:cNvGraphicFramePr/>
          <p:nvPr/>
        </p:nvGraphicFramePr>
        <p:xfrm>
          <a:off x="1117440" y="90360"/>
          <a:ext cx="6908760" cy="5519880"/>
        </p:xfrm>
        <a:graphic>
          <a:graphicData uri="http://schemas.openxmlformats.org/drawingml/2006/table">
            <a:tbl>
              <a:tblPr/>
              <a:tblGrid>
                <a:gridCol w="6534000"/>
                <a:gridCol w="374760"/>
              </a:tblGrid>
              <a:tr h="515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7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7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117440" y="5610240"/>
          <a:ext cx="1924200" cy="517680"/>
        </p:xfrm>
        <a:graphic>
          <a:graphicData uri="http://schemas.openxmlformats.org/drawingml/2006/table">
            <a:tbl>
              <a:tblPr/>
              <a:tblGrid>
                <a:gridCol w="1924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5599080" y="6127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27160" y="5619600"/>
          <a:ext cx="2628720" cy="517680"/>
        </p:xfrm>
        <a:graphic>
          <a:graphicData uri="http://schemas.openxmlformats.org/drawingml/2006/table">
            <a:tbl>
              <a:tblPr/>
              <a:tblGrid>
                <a:gridCol w="2628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1136520" y="5629320"/>
          <a:ext cx="2629080" cy="517320"/>
        </p:xfrm>
        <a:graphic>
          <a:graphicData uri="http://schemas.openxmlformats.org/drawingml/2006/table">
            <a:tbl>
              <a:tblPr/>
              <a:tblGrid>
                <a:gridCol w="2629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1146240" y="5703840"/>
          <a:ext cx="2628720" cy="365040"/>
        </p:xfrm>
        <a:graphic>
          <a:graphicData uri="http://schemas.openxmlformats.org/drawingml/2006/table">
            <a:tbl>
              <a:tblPr/>
              <a:tblGrid>
                <a:gridCol w="26287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ncia Flaminia Coupé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273320" y="3348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7"/>
          <a:stretch/>
        </p:blipFill>
        <p:spPr>
          <a:xfrm>
            <a:off x="7807320" y="136440"/>
            <a:ext cx="114480" cy="572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8"/>
          <a:stretch/>
        </p:blipFill>
        <p:spPr>
          <a:xfrm>
            <a:off x="1273320" y="5289480"/>
            <a:ext cx="56880" cy="1144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9"/>
          <a:stretch/>
        </p:blipFill>
        <p:spPr>
          <a:xfrm>
            <a:off x="7807320" y="5289480"/>
            <a:ext cx="11448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594400" y="344808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1117440" y="90360"/>
            <a:ext cx="114480" cy="44197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1117440" y="90360"/>
            <a:ext cx="5943600" cy="11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4" name=""/>
          <p:cNvGraphicFramePr/>
          <p:nvPr/>
        </p:nvGraphicFramePr>
        <p:xfrm>
          <a:off x="1117440" y="90360"/>
          <a:ext cx="6908760" cy="5519880"/>
        </p:xfrm>
        <a:graphic>
          <a:graphicData uri="http://schemas.openxmlformats.org/drawingml/2006/table">
            <a:tbl>
              <a:tblPr/>
              <a:tblGrid>
                <a:gridCol w="6534000"/>
                <a:gridCol w="374760"/>
              </a:tblGrid>
              <a:tr h="515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7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7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117440" y="5610240"/>
          <a:ext cx="1924200" cy="517680"/>
        </p:xfrm>
        <a:graphic>
          <a:graphicData uri="http://schemas.openxmlformats.org/drawingml/2006/table">
            <a:tbl>
              <a:tblPr/>
              <a:tblGrid>
                <a:gridCol w="1924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5599080" y="6127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127160" y="5619600"/>
          <a:ext cx="2628720" cy="517680"/>
        </p:xfrm>
        <a:graphic>
          <a:graphicData uri="http://schemas.openxmlformats.org/drawingml/2006/table">
            <a:tbl>
              <a:tblPr/>
              <a:tblGrid>
                <a:gridCol w="2628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136520" y="5629320"/>
          <a:ext cx="2629080" cy="517320"/>
        </p:xfrm>
        <a:graphic>
          <a:graphicData uri="http://schemas.openxmlformats.org/drawingml/2006/table">
            <a:tbl>
              <a:tblPr/>
              <a:tblGrid>
                <a:gridCol w="2629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1146240" y="5703840"/>
          <a:ext cx="2628720" cy="365040"/>
        </p:xfrm>
        <a:graphic>
          <a:graphicData uri="http://schemas.openxmlformats.org/drawingml/2006/table">
            <a:tbl>
              <a:tblPr/>
              <a:tblGrid>
                <a:gridCol w="26287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arth 1300 Scorpione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1273320" y="3348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7"/>
          <a:stretch/>
        </p:blipFill>
        <p:spPr>
          <a:xfrm>
            <a:off x="7807320" y="136440"/>
            <a:ext cx="114480" cy="572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8"/>
          <a:stretch/>
        </p:blipFill>
        <p:spPr>
          <a:xfrm>
            <a:off x="1273320" y="5289480"/>
            <a:ext cx="56880" cy="1144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9"/>
          <a:stretch/>
        </p:blipFill>
        <p:spPr>
          <a:xfrm>
            <a:off x="7807320" y="5289480"/>
            <a:ext cx="11448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594400" y="344808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1117440" y="90360"/>
            <a:ext cx="114480" cy="44197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1117440" y="90360"/>
            <a:ext cx="5943600" cy="11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1117440" y="90360"/>
          <a:ext cx="6908760" cy="5519880"/>
        </p:xfrm>
        <a:graphic>
          <a:graphicData uri="http://schemas.openxmlformats.org/drawingml/2006/table">
            <a:tbl>
              <a:tblPr/>
              <a:tblGrid>
                <a:gridCol w="6534000"/>
                <a:gridCol w="374760"/>
              </a:tblGrid>
              <a:tr h="515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7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7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1117440" y="5610240"/>
          <a:ext cx="1542960" cy="517680"/>
        </p:xfrm>
        <a:graphic>
          <a:graphicData uri="http://schemas.openxmlformats.org/drawingml/2006/table">
            <a:tbl>
              <a:tblPr/>
              <a:tblGrid>
                <a:gridCol w="1542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5599080" y="6127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127160" y="5619600"/>
          <a:ext cx="3009960" cy="517680"/>
        </p:xfrm>
        <a:graphic>
          <a:graphicData uri="http://schemas.openxmlformats.org/drawingml/2006/table">
            <a:tbl>
              <a:tblPr/>
              <a:tblGrid>
                <a:gridCol w="3009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1136520" y="5629320"/>
          <a:ext cx="3009960" cy="517320"/>
        </p:xfrm>
        <a:graphic>
          <a:graphicData uri="http://schemas.openxmlformats.org/drawingml/2006/table">
            <a:tbl>
              <a:tblPr/>
              <a:tblGrid>
                <a:gridCol w="3009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1146240" y="5703840"/>
          <a:ext cx="3009960" cy="365040"/>
        </p:xfrm>
        <a:graphic>
          <a:graphicData uri="http://schemas.openxmlformats.org/drawingml/2006/table">
            <a:tbl>
              <a:tblPr/>
              <a:tblGrid>
                <a:gridCol w="30099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erican (inspired) desig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1273320" y="3348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7"/>
          <a:stretch/>
        </p:blipFill>
        <p:spPr>
          <a:xfrm>
            <a:off x="7807320" y="136440"/>
            <a:ext cx="114480" cy="572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8"/>
          <a:stretch/>
        </p:blipFill>
        <p:spPr>
          <a:xfrm>
            <a:off x="1273320" y="5289480"/>
            <a:ext cx="56880" cy="1144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9"/>
          <a:stretch/>
        </p:blipFill>
        <p:spPr>
          <a:xfrm>
            <a:off x="7807320" y="5289480"/>
            <a:ext cx="11448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594400" y="344808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1117440" y="90360"/>
            <a:ext cx="114480" cy="441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5"/>
          <a:stretch/>
        </p:blipFill>
        <p:spPr>
          <a:xfrm>
            <a:off x="1117440" y="90360"/>
            <a:ext cx="5943600" cy="11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8" name=""/>
          <p:cNvGraphicFramePr/>
          <p:nvPr/>
        </p:nvGraphicFramePr>
        <p:xfrm>
          <a:off x="1117440" y="90360"/>
          <a:ext cx="6908760" cy="5519880"/>
        </p:xfrm>
        <a:graphic>
          <a:graphicData uri="http://schemas.openxmlformats.org/drawingml/2006/table">
            <a:tbl>
              <a:tblPr/>
              <a:tblGrid>
                <a:gridCol w="6534000"/>
                <a:gridCol w="374760"/>
              </a:tblGrid>
              <a:tr h="515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7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7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1117440" y="5610240"/>
          <a:ext cx="2038320" cy="517680"/>
        </p:xfrm>
        <a:graphic>
          <a:graphicData uri="http://schemas.openxmlformats.org/drawingml/2006/table">
            <a:tbl>
              <a:tblPr/>
              <a:tblGrid>
                <a:gridCol w="2038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5599080" y="6127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127160" y="5619600"/>
          <a:ext cx="2514600" cy="51768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1136520" y="5629320"/>
          <a:ext cx="2514600" cy="51732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1146240" y="5703840"/>
          <a:ext cx="2514600" cy="36504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ior of Alfa Romeo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44" name="" descr=""/>
          <p:cNvPicPr/>
          <p:nvPr/>
        </p:nvPicPr>
        <p:blipFill>
          <a:blip r:embed="rId6"/>
          <a:stretch/>
        </p:blipFill>
        <p:spPr>
          <a:xfrm>
            <a:off x="1273320" y="3348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7"/>
          <a:stretch/>
        </p:blipFill>
        <p:spPr>
          <a:xfrm>
            <a:off x="7807320" y="136440"/>
            <a:ext cx="114480" cy="572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8"/>
          <a:stretch/>
        </p:blipFill>
        <p:spPr>
          <a:xfrm>
            <a:off x="1273320" y="5289480"/>
            <a:ext cx="56880" cy="1144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9"/>
          <a:stretch/>
        </p:blipFill>
        <p:spPr>
          <a:xfrm>
            <a:off x="7807320" y="5289480"/>
            <a:ext cx="11448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5594400" y="344808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117440" y="90360"/>
            <a:ext cx="114480" cy="44197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5"/>
          <a:stretch/>
        </p:blipFill>
        <p:spPr>
          <a:xfrm>
            <a:off x="1117440" y="90360"/>
            <a:ext cx="5943600" cy="11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5" name=""/>
          <p:cNvGraphicFramePr/>
          <p:nvPr/>
        </p:nvGraphicFramePr>
        <p:xfrm>
          <a:off x="1117440" y="90360"/>
          <a:ext cx="6908760" cy="5519880"/>
        </p:xfrm>
        <a:graphic>
          <a:graphicData uri="http://schemas.openxmlformats.org/drawingml/2006/table">
            <a:tbl>
              <a:tblPr/>
              <a:tblGrid>
                <a:gridCol w="6534000"/>
                <a:gridCol w="374760"/>
              </a:tblGrid>
              <a:tr h="515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7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7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1117440" y="5610240"/>
          <a:ext cx="6585120" cy="517680"/>
        </p:xfrm>
        <a:graphic>
          <a:graphicData uri="http://schemas.openxmlformats.org/drawingml/2006/table">
            <a:tbl>
              <a:tblPr/>
              <a:tblGrid>
                <a:gridCol w="658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"/>
          <p:cNvSpPr/>
          <p:nvPr/>
        </p:nvSpPr>
        <p:spPr>
          <a:xfrm>
            <a:off x="5599080" y="6127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127160" y="5619600"/>
          <a:ext cx="6566040" cy="517680"/>
        </p:xfrm>
        <a:graphic>
          <a:graphicData uri="http://schemas.openxmlformats.org/drawingml/2006/table">
            <a:tbl>
              <a:tblPr/>
              <a:tblGrid>
                <a:gridCol w="6566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1136520" y="5629320"/>
          <a:ext cx="6566040" cy="517320"/>
        </p:xfrm>
        <a:graphic>
          <a:graphicData uri="http://schemas.openxmlformats.org/drawingml/2006/table">
            <a:tbl>
              <a:tblPr/>
              <a:tblGrid>
                <a:gridCol w="6566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1146240" y="5703840"/>
          <a:ext cx="6565680" cy="365040"/>
        </p:xfrm>
        <a:graphic>
          <a:graphicData uri="http://schemas.openxmlformats.org/drawingml/2006/table">
            <a:tbl>
              <a:tblPr/>
              <a:tblGrid>
                <a:gridCol w="65656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ncia Flaminia Coupé, Peugeot 504 cabriolet &amp; 404 cabriole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1273320" y="3348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7"/>
          <a:stretch/>
        </p:blipFill>
        <p:spPr>
          <a:xfrm>
            <a:off x="7807320" y="136440"/>
            <a:ext cx="114480" cy="572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8"/>
          <a:stretch/>
        </p:blipFill>
        <p:spPr>
          <a:xfrm>
            <a:off x="1273320" y="5289480"/>
            <a:ext cx="56880" cy="1144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9"/>
          <a:stretch/>
        </p:blipFill>
        <p:spPr>
          <a:xfrm>
            <a:off x="7807320" y="5289480"/>
            <a:ext cx="11448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5594400" y="344808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1117440" y="90360"/>
            <a:ext cx="114480" cy="44197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5"/>
          <a:stretch/>
        </p:blipFill>
        <p:spPr>
          <a:xfrm>
            <a:off x="1117440" y="90360"/>
            <a:ext cx="5943600" cy="11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2" name=""/>
          <p:cNvGraphicFramePr/>
          <p:nvPr/>
        </p:nvGraphicFramePr>
        <p:xfrm>
          <a:off x="1117440" y="90360"/>
          <a:ext cx="6908760" cy="5519880"/>
        </p:xfrm>
        <a:graphic>
          <a:graphicData uri="http://schemas.openxmlformats.org/drawingml/2006/table">
            <a:tbl>
              <a:tblPr/>
              <a:tblGrid>
                <a:gridCol w="6534000"/>
                <a:gridCol w="374760"/>
              </a:tblGrid>
              <a:tr h="515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7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7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1117440" y="5610240"/>
          <a:ext cx="679320" cy="517680"/>
        </p:xfrm>
        <a:graphic>
          <a:graphicData uri="http://schemas.openxmlformats.org/drawingml/2006/table">
            <a:tbl>
              <a:tblPr/>
              <a:tblGrid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5599080" y="6127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127160" y="5619600"/>
          <a:ext cx="3873600" cy="517680"/>
        </p:xfrm>
        <a:graphic>
          <a:graphicData uri="http://schemas.openxmlformats.org/drawingml/2006/table">
            <a:tbl>
              <a:tblPr/>
              <a:tblGrid>
                <a:gridCol w="3873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1136520" y="5629320"/>
          <a:ext cx="3873600" cy="517320"/>
        </p:xfrm>
        <a:graphic>
          <a:graphicData uri="http://schemas.openxmlformats.org/drawingml/2006/table">
            <a:tbl>
              <a:tblPr/>
              <a:tblGrid>
                <a:gridCol w="3873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1146240" y="5703840"/>
          <a:ext cx="3873600" cy="365040"/>
        </p:xfrm>
        <a:graphic>
          <a:graphicData uri="http://schemas.openxmlformats.org/drawingml/2006/table">
            <a:tbl>
              <a:tblPr/>
              <a:tblGrid>
                <a:gridCol w="38736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i, Alfa 1900 Super Sprint, Balill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78" name="" descr=""/>
          <p:cNvPicPr/>
          <p:nvPr/>
        </p:nvPicPr>
        <p:blipFill>
          <a:blip r:embed="rId6"/>
          <a:stretch/>
        </p:blipFill>
        <p:spPr>
          <a:xfrm>
            <a:off x="1273320" y="3348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7"/>
          <a:stretch/>
        </p:blipFill>
        <p:spPr>
          <a:xfrm>
            <a:off x="7807320" y="136440"/>
            <a:ext cx="114480" cy="572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8"/>
          <a:stretch/>
        </p:blipFill>
        <p:spPr>
          <a:xfrm>
            <a:off x="1273320" y="5289480"/>
            <a:ext cx="56880" cy="1144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9"/>
          <a:stretch/>
        </p:blipFill>
        <p:spPr>
          <a:xfrm>
            <a:off x="7807320" y="5289480"/>
            <a:ext cx="11448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5594400" y="344808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1117440" y="90360"/>
            <a:ext cx="114480" cy="44197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1117440" y="90360"/>
            <a:ext cx="5943600" cy="11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9" name=""/>
          <p:cNvGraphicFramePr/>
          <p:nvPr/>
        </p:nvGraphicFramePr>
        <p:xfrm>
          <a:off x="1117440" y="90360"/>
          <a:ext cx="6908760" cy="5519880"/>
        </p:xfrm>
        <a:graphic>
          <a:graphicData uri="http://schemas.openxmlformats.org/drawingml/2006/table">
            <a:tbl>
              <a:tblPr/>
              <a:tblGrid>
                <a:gridCol w="6534000"/>
                <a:gridCol w="374760"/>
              </a:tblGrid>
              <a:tr h="515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7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7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1117440" y="5610240"/>
          <a:ext cx="4705200" cy="517680"/>
        </p:xfrm>
        <a:graphic>
          <a:graphicData uri="http://schemas.openxmlformats.org/drawingml/2006/table">
            <a:tbl>
              <a:tblPr/>
              <a:tblGrid>
                <a:gridCol w="4705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"/>
          <p:cNvSpPr/>
          <p:nvPr/>
        </p:nvSpPr>
        <p:spPr>
          <a:xfrm>
            <a:off x="5599080" y="6127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127160" y="5619600"/>
          <a:ext cx="4686120" cy="517680"/>
        </p:xfrm>
        <a:graphic>
          <a:graphicData uri="http://schemas.openxmlformats.org/drawingml/2006/table">
            <a:tbl>
              <a:tblPr/>
              <a:tblGrid>
                <a:gridCol w="4686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1136520" y="5629320"/>
          <a:ext cx="4686480" cy="517320"/>
        </p:xfrm>
        <a:graphic>
          <a:graphicData uri="http://schemas.openxmlformats.org/drawingml/2006/table">
            <a:tbl>
              <a:tblPr/>
              <a:tblGrid>
                <a:gridCol w="4686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1146240" y="5703840"/>
          <a:ext cx="4686120" cy="365040"/>
        </p:xfrm>
        <a:graphic>
          <a:graphicData uri="http://schemas.openxmlformats.org/drawingml/2006/table">
            <a:tbl>
              <a:tblPr/>
              <a:tblGrid>
                <a:gridCol w="46861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at Topolino II, Triumph TR4, Peugeot 202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95" name="" descr=""/>
          <p:cNvPicPr/>
          <p:nvPr/>
        </p:nvPicPr>
        <p:blipFill>
          <a:blip r:embed="rId6"/>
          <a:stretch/>
        </p:blipFill>
        <p:spPr>
          <a:xfrm>
            <a:off x="1273320" y="3348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7"/>
          <a:stretch/>
        </p:blipFill>
        <p:spPr>
          <a:xfrm>
            <a:off x="7807320" y="136440"/>
            <a:ext cx="114480" cy="572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8"/>
          <a:stretch/>
        </p:blipFill>
        <p:spPr>
          <a:xfrm>
            <a:off x="1273320" y="5289480"/>
            <a:ext cx="56880" cy="1144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9"/>
          <a:stretch/>
        </p:blipFill>
        <p:spPr>
          <a:xfrm>
            <a:off x="7807320" y="5289480"/>
            <a:ext cx="11448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5594400" y="344808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1117440" y="90360"/>
            <a:ext cx="114480" cy="44197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5"/>
          <a:stretch/>
        </p:blipFill>
        <p:spPr>
          <a:xfrm>
            <a:off x="1117440" y="90360"/>
            <a:ext cx="5943600" cy="11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6" name=""/>
          <p:cNvGraphicFramePr/>
          <p:nvPr/>
        </p:nvGraphicFramePr>
        <p:xfrm>
          <a:off x="1117440" y="90360"/>
          <a:ext cx="6908760" cy="5519880"/>
        </p:xfrm>
        <a:graphic>
          <a:graphicData uri="http://schemas.openxmlformats.org/drawingml/2006/table">
            <a:tbl>
              <a:tblPr/>
              <a:tblGrid>
                <a:gridCol w="6534000"/>
                <a:gridCol w="374760"/>
              </a:tblGrid>
              <a:tr h="515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7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7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117440" y="5610240"/>
          <a:ext cx="6330960" cy="517680"/>
        </p:xfrm>
        <a:graphic>
          <a:graphicData uri="http://schemas.openxmlformats.org/drawingml/2006/table">
            <a:tbl>
              <a:tblPr/>
              <a:tblGrid>
                <a:gridCol w="6330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5599080" y="6127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127160" y="5619600"/>
          <a:ext cx="6311880" cy="517680"/>
        </p:xfrm>
        <a:graphic>
          <a:graphicData uri="http://schemas.openxmlformats.org/drawingml/2006/table">
            <a:tbl>
              <a:tblPr/>
              <a:tblGrid>
                <a:gridCol w="6311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1136520" y="5629320"/>
          <a:ext cx="6311880" cy="517320"/>
        </p:xfrm>
        <a:graphic>
          <a:graphicData uri="http://schemas.openxmlformats.org/drawingml/2006/table">
            <a:tbl>
              <a:tblPr/>
              <a:tblGrid>
                <a:gridCol w="6311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1146240" y="5703840"/>
          <a:ext cx="6311880" cy="365040"/>
        </p:xfrm>
        <a:graphic>
          <a:graphicData uri="http://schemas.openxmlformats.org/drawingml/2006/table">
            <a:tbl>
              <a:tblPr/>
              <a:tblGrid>
                <a:gridCol w="63118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MW V8, Formula racers, Chryslers, Mercedes, Austin A30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312" name="" descr=""/>
          <p:cNvPicPr/>
          <p:nvPr/>
        </p:nvPicPr>
        <p:blipFill>
          <a:blip r:embed="rId6"/>
          <a:stretch/>
        </p:blipFill>
        <p:spPr>
          <a:xfrm>
            <a:off x="1273320" y="3348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7"/>
          <a:stretch/>
        </p:blipFill>
        <p:spPr>
          <a:xfrm>
            <a:off x="7807320" y="136440"/>
            <a:ext cx="114480" cy="5724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8"/>
          <a:stretch/>
        </p:blipFill>
        <p:spPr>
          <a:xfrm>
            <a:off x="1273320" y="5289480"/>
            <a:ext cx="56880" cy="114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9"/>
          <a:stretch/>
        </p:blipFill>
        <p:spPr>
          <a:xfrm>
            <a:off x="7807320" y="5289480"/>
            <a:ext cx="11448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5594400" y="344808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1117440" y="90360"/>
            <a:ext cx="114480" cy="441972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5"/>
          <a:stretch/>
        </p:blipFill>
        <p:spPr>
          <a:xfrm>
            <a:off x="1117440" y="90360"/>
            <a:ext cx="5943600" cy="11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3" name=""/>
          <p:cNvGraphicFramePr/>
          <p:nvPr/>
        </p:nvGraphicFramePr>
        <p:xfrm>
          <a:off x="1117440" y="90360"/>
          <a:ext cx="6908760" cy="5519880"/>
        </p:xfrm>
        <a:graphic>
          <a:graphicData uri="http://schemas.openxmlformats.org/drawingml/2006/table">
            <a:tbl>
              <a:tblPr/>
              <a:tblGrid>
                <a:gridCol w="6534000"/>
                <a:gridCol w="374760"/>
              </a:tblGrid>
              <a:tr h="515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7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7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1117440" y="5610240"/>
          <a:ext cx="6330960" cy="517680"/>
        </p:xfrm>
        <a:graphic>
          <a:graphicData uri="http://schemas.openxmlformats.org/drawingml/2006/table">
            <a:tbl>
              <a:tblPr/>
              <a:tblGrid>
                <a:gridCol w="6330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"/>
          <p:cNvSpPr/>
          <p:nvPr/>
        </p:nvSpPr>
        <p:spPr>
          <a:xfrm>
            <a:off x="5599080" y="6127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127160" y="5619600"/>
          <a:ext cx="6311880" cy="517680"/>
        </p:xfrm>
        <a:graphic>
          <a:graphicData uri="http://schemas.openxmlformats.org/drawingml/2006/table">
            <a:tbl>
              <a:tblPr/>
              <a:tblGrid>
                <a:gridCol w="6311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1136520" y="5629320"/>
          <a:ext cx="6311880" cy="517320"/>
        </p:xfrm>
        <a:graphic>
          <a:graphicData uri="http://schemas.openxmlformats.org/drawingml/2006/table">
            <a:tbl>
              <a:tblPr/>
              <a:tblGrid>
                <a:gridCol w="6311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1146240" y="5703840"/>
          <a:ext cx="6311880" cy="365040"/>
        </p:xfrm>
        <a:graphic>
          <a:graphicData uri="http://schemas.openxmlformats.org/drawingml/2006/table">
            <a:tbl>
              <a:tblPr/>
              <a:tblGrid>
                <a:gridCol w="63118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MW V8, Formula racers, Chryslers, Mercedes, Austin A30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329" name="" descr=""/>
          <p:cNvPicPr/>
          <p:nvPr/>
        </p:nvPicPr>
        <p:blipFill>
          <a:blip r:embed="rId6"/>
          <a:stretch/>
        </p:blipFill>
        <p:spPr>
          <a:xfrm>
            <a:off x="1273320" y="3348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7"/>
          <a:stretch/>
        </p:blipFill>
        <p:spPr>
          <a:xfrm>
            <a:off x="7807320" y="136440"/>
            <a:ext cx="114480" cy="5724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8"/>
          <a:stretch/>
        </p:blipFill>
        <p:spPr>
          <a:xfrm>
            <a:off x="1273320" y="5289480"/>
            <a:ext cx="56880" cy="1144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9"/>
          <a:stretch/>
        </p:blipFill>
        <p:spPr>
          <a:xfrm>
            <a:off x="7807320" y="528948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234000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3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594400" y="344808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117440" y="90360"/>
            <a:ext cx="114480" cy="4419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117440" y="90360"/>
            <a:ext cx="5943600" cy="11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1117440" y="90360"/>
          <a:ext cx="6908760" cy="5519880"/>
        </p:xfrm>
        <a:graphic>
          <a:graphicData uri="http://schemas.openxmlformats.org/drawingml/2006/table">
            <a:tbl>
              <a:tblPr/>
              <a:tblGrid>
                <a:gridCol w="6534000"/>
                <a:gridCol w="374760"/>
              </a:tblGrid>
              <a:tr h="515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7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7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117440" y="5610240"/>
          <a:ext cx="3193920" cy="517680"/>
        </p:xfrm>
        <a:graphic>
          <a:graphicData uri="http://schemas.openxmlformats.org/drawingml/2006/table">
            <a:tbl>
              <a:tblPr/>
              <a:tblGrid>
                <a:gridCol w="3193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5599080" y="6127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035080" y="5619600"/>
          <a:ext cx="1359000" cy="517680"/>
        </p:xfrm>
        <a:graphic>
          <a:graphicData uri="http://schemas.openxmlformats.org/drawingml/2006/table">
            <a:tbl>
              <a:tblPr/>
              <a:tblGrid>
                <a:gridCol w="1359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2044800" y="5629320"/>
          <a:ext cx="1358640" cy="517320"/>
        </p:xfrm>
        <a:graphic>
          <a:graphicData uri="http://schemas.openxmlformats.org/drawingml/2006/table">
            <a:tbl>
              <a:tblPr/>
              <a:tblGrid>
                <a:gridCol w="1358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2054160" y="5703840"/>
          <a:ext cx="1359000" cy="365040"/>
        </p:xfrm>
        <a:graphic>
          <a:graphicData uri="http://schemas.openxmlformats.org/drawingml/2006/table">
            <a:tbl>
              <a:tblPr/>
              <a:tblGrid>
                <a:gridCol w="13590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Barn..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1273320" y="3348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7807320" y="136440"/>
            <a:ext cx="114480" cy="57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1273320" y="5289480"/>
            <a:ext cx="56880" cy="114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7807320" y="5289480"/>
            <a:ext cx="11448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522760" y="344808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04616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046160" y="90360"/>
            <a:ext cx="114480" cy="4419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04616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046160" y="90360"/>
            <a:ext cx="5943600" cy="11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1046160" y="90360"/>
          <a:ext cx="6908760" cy="5519880"/>
        </p:xfrm>
        <a:graphic>
          <a:graphicData uri="http://schemas.openxmlformats.org/drawingml/2006/table">
            <a:tbl>
              <a:tblPr/>
              <a:tblGrid>
                <a:gridCol w="6534000"/>
                <a:gridCol w="374760"/>
              </a:tblGrid>
              <a:tr h="515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7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7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1046160" y="5610240"/>
          <a:ext cx="7042320" cy="517680"/>
        </p:xfrm>
        <a:graphic>
          <a:graphicData uri="http://schemas.openxmlformats.org/drawingml/2006/table">
            <a:tbl>
              <a:tblPr/>
              <a:tblGrid>
                <a:gridCol w="704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5527800" y="6127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055520" y="5619600"/>
          <a:ext cx="7023240" cy="517680"/>
        </p:xfrm>
        <a:graphic>
          <a:graphicData uri="http://schemas.openxmlformats.org/drawingml/2006/table">
            <a:tbl>
              <a:tblPr/>
              <a:tblGrid>
                <a:gridCol w="7023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065240" y="5629320"/>
          <a:ext cx="7023240" cy="517320"/>
        </p:xfrm>
        <a:graphic>
          <a:graphicData uri="http://schemas.openxmlformats.org/drawingml/2006/table">
            <a:tbl>
              <a:tblPr/>
              <a:tblGrid>
                <a:gridCol w="7023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1074600" y="5703840"/>
          <a:ext cx="7023240" cy="365040"/>
        </p:xfrm>
        <a:graphic>
          <a:graphicData uri="http://schemas.openxmlformats.org/drawingml/2006/table">
            <a:tbl>
              <a:tblPr/>
              <a:tblGrid>
                <a:gridCol w="70232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doors were welded shut, but an angle grinder took care of tha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1201680" y="3348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7736040" y="136440"/>
            <a:ext cx="114120" cy="572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1201680" y="5289480"/>
            <a:ext cx="57240" cy="114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7736040" y="5289480"/>
            <a:ext cx="11412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160960" y="344808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84360" y="9036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84360" y="90360"/>
            <a:ext cx="114120" cy="4419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84360" y="9036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684360" y="90360"/>
            <a:ext cx="5943600" cy="11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684360" y="90360"/>
          <a:ext cx="6908760" cy="5519880"/>
        </p:xfrm>
        <a:graphic>
          <a:graphicData uri="http://schemas.openxmlformats.org/drawingml/2006/table">
            <a:tbl>
              <a:tblPr/>
              <a:tblGrid>
                <a:gridCol w="6534000"/>
                <a:gridCol w="374760"/>
              </a:tblGrid>
              <a:tr h="515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7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7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684360" y="5610240"/>
          <a:ext cx="7765920" cy="517680"/>
        </p:xfrm>
        <a:graphic>
          <a:graphicData uri="http://schemas.openxmlformats.org/drawingml/2006/table">
            <a:tbl>
              <a:tblPr/>
              <a:tblGrid>
                <a:gridCol w="7765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5165640" y="6127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93720" y="5619600"/>
          <a:ext cx="7746840" cy="517680"/>
        </p:xfrm>
        <a:graphic>
          <a:graphicData uri="http://schemas.openxmlformats.org/drawingml/2006/table">
            <a:tbl>
              <a:tblPr/>
              <a:tblGrid>
                <a:gridCol w="7746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703440" y="5629320"/>
          <a:ext cx="7746840" cy="517320"/>
        </p:xfrm>
        <a:graphic>
          <a:graphicData uri="http://schemas.openxmlformats.org/drawingml/2006/table">
            <a:tbl>
              <a:tblPr/>
              <a:tblGrid>
                <a:gridCol w="7746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712800" y="5703840"/>
          <a:ext cx="7746840" cy="365040"/>
        </p:xfrm>
        <a:graphic>
          <a:graphicData uri="http://schemas.openxmlformats.org/drawingml/2006/table">
            <a:tbl>
              <a:tblPr/>
              <a:tblGrid>
                <a:gridCol w="77468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at Cabriolet (1200 or 1500), Ford Cortina MKII, Mercedes Benz 180/190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839880" y="3348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7373880" y="136440"/>
            <a:ext cx="114480" cy="57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839880" y="5289480"/>
            <a:ext cx="56880" cy="114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>
            <a:off x="7373880" y="5289480"/>
            <a:ext cx="11448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94400" y="344808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117440" y="90360"/>
            <a:ext cx="114480" cy="4419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1117440" y="90360"/>
            <a:ext cx="5943600" cy="11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1117440" y="90360"/>
          <a:ext cx="6908760" cy="5519880"/>
        </p:xfrm>
        <a:graphic>
          <a:graphicData uri="http://schemas.openxmlformats.org/drawingml/2006/table">
            <a:tbl>
              <a:tblPr/>
              <a:tblGrid>
                <a:gridCol w="6534000"/>
                <a:gridCol w="374760"/>
              </a:tblGrid>
              <a:tr h="515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7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7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117440" y="5610240"/>
          <a:ext cx="2508120" cy="517680"/>
        </p:xfrm>
        <a:graphic>
          <a:graphicData uri="http://schemas.openxmlformats.org/drawingml/2006/table">
            <a:tbl>
              <a:tblPr/>
              <a:tblGrid>
                <a:gridCol w="250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5599080" y="6127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349280" y="5619600"/>
          <a:ext cx="2044800" cy="517680"/>
        </p:xfrm>
        <a:graphic>
          <a:graphicData uri="http://schemas.openxmlformats.org/drawingml/2006/table">
            <a:tbl>
              <a:tblPr/>
              <a:tblGrid>
                <a:gridCol w="204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359000" y="5629320"/>
          <a:ext cx="2044440" cy="517320"/>
        </p:xfrm>
        <a:graphic>
          <a:graphicData uri="http://schemas.openxmlformats.org/drawingml/2006/table">
            <a:tbl>
              <a:tblPr/>
              <a:tblGrid>
                <a:gridCol w="2044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368360" y="5703840"/>
          <a:ext cx="2044800" cy="365040"/>
        </p:xfrm>
        <a:graphic>
          <a:graphicData uri="http://schemas.openxmlformats.org/drawingml/2006/table">
            <a:tbl>
              <a:tblPr/>
              <a:tblGrid>
                <a:gridCol w="20448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ton Martin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273320" y="3348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7807320" y="136440"/>
            <a:ext cx="114480" cy="57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1273320" y="5289480"/>
            <a:ext cx="56880" cy="114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9"/>
          <a:stretch/>
        </p:blipFill>
        <p:spPr>
          <a:xfrm>
            <a:off x="7807320" y="5289480"/>
            <a:ext cx="11448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173560" y="344808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96960" y="9036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696960" y="90360"/>
            <a:ext cx="114120" cy="4419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696960" y="9036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696960" y="90360"/>
            <a:ext cx="5943600" cy="11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696960" y="90360"/>
          <a:ext cx="6908760" cy="5519880"/>
        </p:xfrm>
        <a:graphic>
          <a:graphicData uri="http://schemas.openxmlformats.org/drawingml/2006/table">
            <a:tbl>
              <a:tblPr/>
              <a:tblGrid>
                <a:gridCol w="6534000"/>
                <a:gridCol w="374760"/>
              </a:tblGrid>
              <a:tr h="515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7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7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696960" y="5610240"/>
          <a:ext cx="7740720" cy="517680"/>
        </p:xfrm>
        <a:graphic>
          <a:graphicData uri="http://schemas.openxmlformats.org/drawingml/2006/table">
            <a:tbl>
              <a:tblPr/>
              <a:tblGrid>
                <a:gridCol w="7740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5178600" y="6127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06320" y="5619600"/>
          <a:ext cx="7721640" cy="517680"/>
        </p:xfrm>
        <a:graphic>
          <a:graphicData uri="http://schemas.openxmlformats.org/drawingml/2006/table">
            <a:tbl>
              <a:tblPr/>
              <a:tblGrid>
                <a:gridCol w="7721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716040" y="5629320"/>
          <a:ext cx="7721640" cy="517320"/>
        </p:xfrm>
        <a:graphic>
          <a:graphicData uri="http://schemas.openxmlformats.org/drawingml/2006/table">
            <a:tbl>
              <a:tblPr/>
              <a:tblGrid>
                <a:gridCol w="7721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725400" y="5703840"/>
          <a:ext cx="7721640" cy="365040"/>
        </p:xfrm>
        <a:graphic>
          <a:graphicData uri="http://schemas.openxmlformats.org/drawingml/2006/table">
            <a:tbl>
              <a:tblPr/>
              <a:tblGrid>
                <a:gridCol w="77216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l GT, Lotus Elan FHC, Lotus Super Seven Series IV, Lotus Elan DHC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852480" y="3348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7386480" y="136440"/>
            <a:ext cx="114480" cy="57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852480" y="5289480"/>
            <a:ext cx="57240" cy="114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9"/>
          <a:stretch/>
        </p:blipFill>
        <p:spPr>
          <a:xfrm>
            <a:off x="7386480" y="5289480"/>
            <a:ext cx="11448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594400" y="344808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117440" y="90360"/>
            <a:ext cx="114480" cy="4419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1117440" y="90360"/>
            <a:ext cx="5943600" cy="11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1117440" y="90360"/>
          <a:ext cx="6908760" cy="5519880"/>
        </p:xfrm>
        <a:graphic>
          <a:graphicData uri="http://schemas.openxmlformats.org/drawingml/2006/table">
            <a:tbl>
              <a:tblPr/>
              <a:tblGrid>
                <a:gridCol w="6534000"/>
                <a:gridCol w="374760"/>
              </a:tblGrid>
              <a:tr h="515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7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7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117440" y="5610240"/>
          <a:ext cx="6673680" cy="517680"/>
        </p:xfrm>
        <a:graphic>
          <a:graphicData uri="http://schemas.openxmlformats.org/drawingml/2006/table">
            <a:tbl>
              <a:tblPr/>
              <a:tblGrid>
                <a:gridCol w="6673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5599080" y="6127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27160" y="5619600"/>
          <a:ext cx="6654600" cy="517680"/>
        </p:xfrm>
        <a:graphic>
          <a:graphicData uri="http://schemas.openxmlformats.org/drawingml/2006/table">
            <a:tbl>
              <a:tblPr/>
              <a:tblGrid>
                <a:gridCol w="6654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1136520" y="5629320"/>
          <a:ext cx="6654960" cy="517320"/>
        </p:xfrm>
        <a:graphic>
          <a:graphicData uri="http://schemas.openxmlformats.org/drawingml/2006/table">
            <a:tbl>
              <a:tblPr/>
              <a:tblGrid>
                <a:gridCol w="6654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1146240" y="5703840"/>
          <a:ext cx="6654600" cy="365040"/>
        </p:xfrm>
        <a:graphic>
          <a:graphicData uri="http://schemas.openxmlformats.org/drawingml/2006/table">
            <a:tbl>
              <a:tblPr/>
              <a:tblGrid>
                <a:gridCol w="66546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rsche 356, Austin Healey Sprite MkII, Volvo PV 544, Ford Y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1273320" y="3348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7807320" y="136440"/>
            <a:ext cx="114480" cy="572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1273320" y="5289480"/>
            <a:ext cx="56880" cy="1144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9"/>
          <a:stretch/>
        </p:blipFill>
        <p:spPr>
          <a:xfrm>
            <a:off x="7807320" y="5289480"/>
            <a:ext cx="11448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594400" y="344808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1117440" y="90360"/>
            <a:ext cx="114480" cy="4419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1117440" y="90360"/>
            <a:ext cx="5943600" cy="11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"/>
          <p:cNvGraphicFramePr/>
          <p:nvPr/>
        </p:nvGraphicFramePr>
        <p:xfrm>
          <a:off x="1117440" y="90360"/>
          <a:ext cx="6908760" cy="5519880"/>
        </p:xfrm>
        <a:graphic>
          <a:graphicData uri="http://schemas.openxmlformats.org/drawingml/2006/table">
            <a:tbl>
              <a:tblPr/>
              <a:tblGrid>
                <a:gridCol w="6534000"/>
                <a:gridCol w="374760"/>
              </a:tblGrid>
              <a:tr h="515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7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7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1117440" y="5610240"/>
          <a:ext cx="6622920" cy="517680"/>
        </p:xfrm>
        <a:graphic>
          <a:graphicData uri="http://schemas.openxmlformats.org/drawingml/2006/table">
            <a:tbl>
              <a:tblPr/>
              <a:tblGrid>
                <a:gridCol w="662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5599080" y="6127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127160" y="5619600"/>
          <a:ext cx="6603840" cy="517680"/>
        </p:xfrm>
        <a:graphic>
          <a:graphicData uri="http://schemas.openxmlformats.org/drawingml/2006/table">
            <a:tbl>
              <a:tblPr/>
              <a:tblGrid>
                <a:gridCol w="6603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136520" y="5629320"/>
          <a:ext cx="6604200" cy="517320"/>
        </p:xfrm>
        <a:graphic>
          <a:graphicData uri="http://schemas.openxmlformats.org/drawingml/2006/table">
            <a:tbl>
              <a:tblPr/>
              <a:tblGrid>
                <a:gridCol w="6604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1146240" y="5703840"/>
          <a:ext cx="6603840" cy="365040"/>
        </p:xfrm>
        <a:graphic>
          <a:graphicData uri="http://schemas.openxmlformats.org/drawingml/2006/table">
            <a:tbl>
              <a:tblPr/>
              <a:tblGrid>
                <a:gridCol w="66038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iulietta Sprint, Giulia Sprint Speciale (SS), Nash Metropolita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1273320" y="3348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7807320" y="136440"/>
            <a:ext cx="114480" cy="572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1273320" y="5289480"/>
            <a:ext cx="56880" cy="1144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7807320" y="5289480"/>
            <a:ext cx="11448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586480" y="344808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10952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1109520" y="90360"/>
            <a:ext cx="114480" cy="4419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110952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1109520" y="90360"/>
            <a:ext cx="5943600" cy="11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"/>
          <p:cNvGraphicFramePr/>
          <p:nvPr/>
        </p:nvGraphicFramePr>
        <p:xfrm>
          <a:off x="1109520" y="90360"/>
          <a:ext cx="6908760" cy="5519880"/>
        </p:xfrm>
        <a:graphic>
          <a:graphicData uri="http://schemas.openxmlformats.org/drawingml/2006/table">
            <a:tbl>
              <a:tblPr/>
              <a:tblGrid>
                <a:gridCol w="6534000"/>
                <a:gridCol w="374760"/>
              </a:tblGrid>
              <a:tr h="515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7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7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109520" y="5610240"/>
          <a:ext cx="6915240" cy="517680"/>
        </p:xfrm>
        <a:graphic>
          <a:graphicData uri="http://schemas.openxmlformats.org/drawingml/2006/table">
            <a:tbl>
              <a:tblPr/>
              <a:tblGrid>
                <a:gridCol w="6915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5591160" y="6127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119240" y="5619600"/>
          <a:ext cx="6896160" cy="517680"/>
        </p:xfrm>
        <a:graphic>
          <a:graphicData uri="http://schemas.openxmlformats.org/drawingml/2006/table">
            <a:tbl>
              <a:tblPr/>
              <a:tblGrid>
                <a:gridCol w="6896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1128600" y="5629320"/>
          <a:ext cx="6896160" cy="517320"/>
        </p:xfrm>
        <a:graphic>
          <a:graphicData uri="http://schemas.openxmlformats.org/drawingml/2006/table">
            <a:tbl>
              <a:tblPr/>
              <a:tblGrid>
                <a:gridCol w="6896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138320" y="5703840"/>
          <a:ext cx="6896160" cy="365040"/>
        </p:xfrm>
        <a:graphic>
          <a:graphicData uri="http://schemas.openxmlformats.org/drawingml/2006/table">
            <a:tbl>
              <a:tblPr/>
              <a:tblGrid>
                <a:gridCol w="68961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fa Giulietta, Lotus Europa, another Lotus Elan FHC, Matra Djet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1265400" y="3348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7799400" y="136440"/>
            <a:ext cx="114120" cy="572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8"/>
          <a:stretch/>
        </p:blipFill>
        <p:spPr>
          <a:xfrm>
            <a:off x="1265400" y="5289480"/>
            <a:ext cx="56880" cy="1144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9"/>
          <a:stretch/>
        </p:blipFill>
        <p:spPr>
          <a:xfrm>
            <a:off x="7799400" y="5289480"/>
            <a:ext cx="11412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4T05:58:36Z</dcterms:created>
  <dc:creator>ShauSaay</dc:creator>
  <dc:description/>
  <dc:language>en-US</dc:language>
  <cp:lastModifiedBy>Smets</cp:lastModifiedBy>
  <dcterms:modified xsi:type="dcterms:W3CDTF">2008-10-04T18:02:51Z</dcterms:modified>
  <cp:revision>7</cp:revision>
  <dc:subject/>
  <dc:title>Barn</dc:title>
</cp:coreProperties>
</file>