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7C3-B9A8-4118-9FFA-E58C4F7E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BDB-A877-41A6-9254-79DA6B30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75D2-64D9-4EC6-A3EA-0C92DBC1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749-1F79-46E3-856A-F494159A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53E-BE44-4AD0-9106-5DCC0F7D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FFF7-9F52-44E6-BA62-B5BF9FF7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68E-96E7-4395-B120-6875F368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05F-C0A3-4609-94A4-98E3FC49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EEF-E966-4111-A0D5-6AF8932A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3E7-9D48-48DD-A937-59F6A601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219-B8D3-4621-BFA2-4A49D5FB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A1E-76C0-4B2A-87D7-996BA050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EA7D7-BD54-4448-9DF4-2D96E6335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D2EDF-0DC3-468A-94D8-2558B29DB013}" type="slidenum">
              <a:rPr b="1" lang="en-US" sz="2000" spc="-1" strike="noStrike">
                <a:solidFill>
                  <a:srgbClr val="003366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8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1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2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3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4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5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6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7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8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1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2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3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4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5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6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7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8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1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2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3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4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5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6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7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7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8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10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1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2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3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4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5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6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7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7:12:24Z</dcterms:created>
  <dc:creator>최봉수</dc:creator>
  <dc:description/>
  <dc:language>en-US</dc:language>
  <cp:lastModifiedBy>군만두 맛있다</cp:lastModifiedBy>
  <dcterms:modified xsi:type="dcterms:W3CDTF">2023-07-08T00:40:57Z</dcterms:modified>
  <cp:revision>2</cp:revision>
  <dc:subject/>
  <dc:title>슬라이드 1</dc:title>
</cp:coreProperties>
</file>