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C3D-1B3C-4F5A-8124-3432F56D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7AC-F6A1-499A-B984-48612731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4D4-3AF6-4E30-9B11-7F0FCE66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21D-1BDC-4AAF-AB4C-3647AB5A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3CB-F730-4092-A5DB-4D17724E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AAEC-58EA-4DB6-B1EA-AA771190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CF94-213E-4354-B61F-FDF57112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0BF-5457-47CC-A56C-3333D0BD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141-274E-43E8-925A-656834AE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AA6-BCA3-461E-AA8C-56362A01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5B4-9D4D-4858-878E-54C58AAB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DAFC-1201-4F70-98A0-E65866AC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8B36B-9DA1-4C46-98A3-D115E2693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8C968-CAB8-415A-A8CD-C2F7691BDB2C}" type="slidenum">
              <a:rPr b="1" lang="en-US" sz="2000" spc="-1" strike="noStrike">
                <a:solidFill>
                  <a:srgbClr val="003366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4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6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7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4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6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7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7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8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1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3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4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6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7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7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8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10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1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2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3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4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5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6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7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7:12:24Z</dcterms:created>
  <dc:creator>최봉수</dc:creator>
  <dc:description/>
  <dc:language>en-US</dc:language>
  <cp:lastModifiedBy>군만두 맛있다</cp:lastModifiedBy>
  <dcterms:modified xsi:type="dcterms:W3CDTF">2023-07-08T00:40:57Z</dcterms:modified>
  <cp:revision>2</cp:revision>
  <dc:subject/>
  <dc:title>슬라이드 1</dc:title>
</cp:coreProperties>
</file>