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Windows%20XP%20Start.wav" ContentType="audio/x-wav"/>
  <Override PartName="/ppt/media/applause.wav" ContentType="audio/x-wav"/>
  <Override PartName="/ppt/media/image4.gif" ContentType="image/gif"/>
  <Override PartName="/ppt/media/loi%20dat%20nuoc%20goi%20t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9A0-6DE1-4730-A37A-F6AFE9A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3AE-B7B7-46A4-B055-A43D119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7BF-B6BA-4EF8-8F8A-A66F0B4F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5AB-B737-408C-B693-B25F61A3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3B2-1FAE-4FEB-8A93-731F055C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F6185-FCA9-4443-A113-F3031CF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334C-894A-4847-9A4D-F715C6C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F15-4279-4705-BB92-3398CB51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90DA-B91F-4122-B00E-583627AD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5AC4-5C01-437A-82E8-5C4A3EA7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2B9-3BCF-4CE8-AC87-E4B39469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40E-9081-415F-9061-284E26FA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4AE-BB58-4AFD-B9F4-E78E804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A59F-1766-48E9-AA55-43157CDB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B1C6-2CD8-44CD-B608-3E216F9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4385-F1A5-48CD-9B28-420D6CA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0C04-09EA-499E-9756-DA04D692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4298-A73D-4A1C-91FC-BEA36207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76A4A-CBFE-4147-AD6E-2F23AC5B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29383-D26C-4F83-8914-2A3A51F2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F6FD-0227-4CFA-8CD4-B61AD610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53E4F-7F53-45BA-9393-DF6F022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407-95BF-4EAA-AF85-DF65390A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52FB-C52A-4EF2-9213-4EAAFDE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95CD1-1E57-4790-B82A-ED50E549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D5A76-28A1-4FE9-89FD-3E95B1F9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A23C-869D-433D-8C45-455329FA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5AE5-9D3A-40D9-9203-C00C0C54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39FBC-0578-4AAC-B2D6-667B4EF1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268E-3D1A-40DB-B003-5D9D0FAE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142-689D-4079-A331-62B104B3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6CC-818F-42BA-B44E-A5BA612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04D-6779-4A28-8B85-9E8C0216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136-D711-4964-8FD6-3EAA7F09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188-6E66-46B6-B70D-C92F27E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5B4-9A7C-4165-AC5F-9D31C21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F1A-87D2-4C04-9CEB-9CEF159CE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8E62-3060-47A6-AF13-D10E3793C67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749C-DE45-4C6D-8C23-868FD01F67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applause.wav" TargetMode="External"/><Relationship Id="rId2" Type="http://schemas.microsoft.com/office/2007/relationships/media" Target="file:///usr/lib/libreoffice/share/gallery/sounds/applause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audio" Target="../media/Windows%20XP%20Start.wav"/><Relationship Id="rId6" Type="http://schemas.openxmlformats.org/officeDocument/2006/relationships/audio" Target="../media/Windows%20XP%20Start.wav"/><Relationship Id="rId7" Type="http://schemas.openxmlformats.org/officeDocument/2006/relationships/audio" Target="../media/Windows%20XP%20Start.wav"/><Relationship Id="rId8" Type="http://schemas.openxmlformats.org/officeDocument/2006/relationships/audio" Target="../media/Windows%20XP%20Start.wav"/><Relationship Id="rId9" Type="http://schemas.openxmlformats.org/officeDocument/2006/relationships/audio" Target="../media/Windows%20XP%20Start.wav"/><Relationship Id="rId10" Type="http://schemas.openxmlformats.org/officeDocument/2006/relationships/audio" Target="../media/Windows%20XP%20Start.wav"/><Relationship Id="rId11" Type="http://schemas.openxmlformats.org/officeDocument/2006/relationships/audio" Target="../media/Windows%20XP%20Start.wav"/><Relationship Id="rId12" Type="http://schemas.openxmlformats.org/officeDocument/2006/relationships/audio" Target="../media/Windows%20XP%20Start.wav"/><Relationship Id="rId13" Type="http://schemas.openxmlformats.org/officeDocument/2006/relationships/audio" Target="../media/Windows%20XP%20Start.wav"/><Relationship Id="rId14" Type="http://schemas.openxmlformats.org/officeDocument/2006/relationships/audio" Target="../media/Windows%20XP%20Start.wav"/><Relationship Id="rId15" Type="http://schemas.openxmlformats.org/officeDocument/2006/relationships/audio" Target="../media/Windows%20XP%20Start.wav"/><Relationship Id="rId16" Type="http://schemas.openxmlformats.org/officeDocument/2006/relationships/audio" Target="../media/Windows%20XP%20Start.wav"/><Relationship Id="rId17" Type="http://schemas.openxmlformats.org/officeDocument/2006/relationships/audio" Target="../media/Windows%20XP%20Start.wav"/><Relationship Id="rId18" Type="http://schemas.openxmlformats.org/officeDocument/2006/relationships/audio" Target="../media/Windows%20XP%20Start.wav"/><Relationship Id="rId19" Type="http://schemas.openxmlformats.org/officeDocument/2006/relationships/audio" Target="../media/Windows%20XP%20Start.wav"/><Relationship Id="rId2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applause.wav"/><Relationship Id="rId9" Type="http://schemas.openxmlformats.org/officeDocument/2006/relationships/audio" Target="../media/loi%20dat%20nuoc%20goi%20ta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2"/>
          <p:cNvSpPr/>
          <p:nvPr/>
        </p:nvSpPr>
        <p:spPr>
          <a:xfrm>
            <a:off x="4978440" y="2971800"/>
            <a:ext cx="355680" cy="1752480"/>
          </a:xfrm>
          <a:custGeom>
            <a:avLst/>
            <a:gdLst/>
            <a:ahLst/>
            <a:rect l="l" t="t" r="r" b="b"/>
            <a:pathLst>
              <a:path w="224" h="1104">
                <a:moveTo>
                  <a:pt x="224" y="0"/>
                </a:moveTo>
                <a:cubicBezTo>
                  <a:pt x="144" y="244"/>
                  <a:pt x="64" y="488"/>
                  <a:pt x="32" y="672"/>
                </a:cubicBezTo>
                <a:cubicBezTo>
                  <a:pt x="0" y="856"/>
                  <a:pt x="16" y="980"/>
                  <a:pt x="32" y="1104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4952880" y="1994040"/>
            <a:ext cx="457200" cy="1892160"/>
          </a:xfrm>
          <a:custGeom>
            <a:avLst/>
            <a:gdLst/>
            <a:ahLst/>
            <a:rect l="l" t="t" r="r" b="b"/>
            <a:pathLst>
              <a:path w="288" h="1192">
                <a:moveTo>
                  <a:pt x="288" y="376"/>
                </a:moveTo>
                <a:cubicBezTo>
                  <a:pt x="288" y="188"/>
                  <a:pt x="288" y="0"/>
                  <a:pt x="240" y="136"/>
                </a:cubicBezTo>
                <a:cubicBezTo>
                  <a:pt x="192" y="272"/>
                  <a:pt x="96" y="732"/>
                  <a:pt x="0" y="119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4"/>
          <p:cNvSpPr/>
          <p:nvPr/>
        </p:nvSpPr>
        <p:spPr>
          <a:xfrm>
            <a:off x="5334120" y="114480"/>
            <a:ext cx="253800" cy="2247840"/>
          </a:xfrm>
          <a:custGeom>
            <a:avLst/>
            <a:gdLst/>
            <a:ahLst/>
            <a:rect l="l" t="t" r="r" b="b"/>
            <a:pathLst>
              <a:path w="160" h="1416">
                <a:moveTo>
                  <a:pt x="96" y="1416"/>
                </a:moveTo>
                <a:cubicBezTo>
                  <a:pt x="128" y="924"/>
                  <a:pt x="160" y="432"/>
                  <a:pt x="144" y="216"/>
                </a:cubicBezTo>
                <a:cubicBezTo>
                  <a:pt x="128" y="0"/>
                  <a:pt x="64" y="60"/>
                  <a:pt x="0" y="120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5"/>
          <p:cNvSpPr/>
          <p:nvPr/>
        </p:nvSpPr>
        <p:spPr>
          <a:xfrm>
            <a:off x="2971800" y="1866960"/>
            <a:ext cx="2209680" cy="876240"/>
          </a:xfrm>
          <a:custGeom>
            <a:avLst/>
            <a:gdLst/>
            <a:ahLst/>
            <a:rect l="l" t="t" r="r" b="b"/>
            <a:pathLst>
              <a:path w="1392" h="552">
                <a:moveTo>
                  <a:pt x="1392" y="408"/>
                </a:moveTo>
                <a:cubicBezTo>
                  <a:pt x="1196" y="204"/>
                  <a:pt x="1000" y="0"/>
                  <a:pt x="768" y="24"/>
                </a:cubicBezTo>
                <a:cubicBezTo>
                  <a:pt x="536" y="48"/>
                  <a:pt x="128" y="464"/>
                  <a:pt x="0" y="55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6"/>
          <p:cNvSpPr/>
          <p:nvPr/>
        </p:nvSpPr>
        <p:spPr>
          <a:xfrm>
            <a:off x="5562720" y="1968480"/>
            <a:ext cx="685800" cy="3670200"/>
          </a:xfrm>
          <a:custGeom>
            <a:avLst/>
            <a:gdLst/>
            <a:ahLst/>
            <a:rect l="l" t="t" r="r" b="b"/>
            <a:pathLst>
              <a:path w="432" h="2312">
                <a:moveTo>
                  <a:pt x="0" y="536"/>
                </a:moveTo>
                <a:cubicBezTo>
                  <a:pt x="108" y="268"/>
                  <a:pt x="216" y="0"/>
                  <a:pt x="288" y="296"/>
                </a:cubicBezTo>
                <a:cubicBezTo>
                  <a:pt x="360" y="592"/>
                  <a:pt x="396" y="1452"/>
                  <a:pt x="432" y="2312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5715000" y="520560"/>
            <a:ext cx="2743200" cy="1841760"/>
          </a:xfrm>
          <a:custGeom>
            <a:avLst/>
            <a:gdLst/>
            <a:ahLst/>
            <a:rect l="l" t="t" r="r" b="b"/>
            <a:pathLst>
              <a:path w="1728" h="1160">
                <a:moveTo>
                  <a:pt x="0" y="1112"/>
                </a:moveTo>
                <a:cubicBezTo>
                  <a:pt x="192" y="556"/>
                  <a:pt x="384" y="0"/>
                  <a:pt x="672" y="8"/>
                </a:cubicBezTo>
                <a:cubicBezTo>
                  <a:pt x="960" y="16"/>
                  <a:pt x="1344" y="588"/>
                  <a:pt x="1728" y="1160"/>
                </a:cubicBezTo>
              </a:path>
            </a:pathLst>
          </a:custGeom>
          <a:noFill/>
          <a:ln cap="rnd" w="57240">
            <a:solidFill>
              <a:srgbClr val="ffcc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8"/>
          <p:cNvSpPr/>
          <p:nvPr/>
        </p:nvSpPr>
        <p:spPr>
          <a:xfrm>
            <a:off x="2819520" y="1333440"/>
            <a:ext cx="2361960" cy="1790640"/>
          </a:xfrm>
          <a:custGeom>
            <a:avLst/>
            <a:gdLst/>
            <a:ahLst/>
            <a:rect l="l" t="t" r="r" b="b"/>
            <a:pathLst>
              <a:path w="1488" h="1128">
                <a:moveTo>
                  <a:pt x="1488" y="696"/>
                </a:moveTo>
                <a:cubicBezTo>
                  <a:pt x="1300" y="348"/>
                  <a:pt x="1112" y="0"/>
                  <a:pt x="864" y="72"/>
                </a:cubicBezTo>
                <a:cubicBezTo>
                  <a:pt x="616" y="144"/>
                  <a:pt x="308" y="636"/>
                  <a:pt x="0" y="1128"/>
                </a:cubicBezTo>
              </a:path>
            </a:pathLst>
          </a:custGeom>
          <a:noFill/>
          <a:ln cap="rnd" w="57240">
            <a:solidFill>
              <a:srgbClr val="fe1f08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9"/>
          <p:cNvSpPr/>
          <p:nvPr/>
        </p:nvSpPr>
        <p:spPr>
          <a:xfrm>
            <a:off x="5410080" y="1422360"/>
            <a:ext cx="482760" cy="3911760"/>
          </a:xfrm>
          <a:custGeom>
            <a:avLst/>
            <a:gdLst/>
            <a:ahLst/>
            <a:rect l="l" t="t" r="r" b="b"/>
            <a:pathLst>
              <a:path w="304" h="2464">
                <a:moveTo>
                  <a:pt x="0" y="832"/>
                </a:moveTo>
                <a:cubicBezTo>
                  <a:pt x="24" y="416"/>
                  <a:pt x="48" y="0"/>
                  <a:pt x="96" y="160"/>
                </a:cubicBezTo>
                <a:cubicBezTo>
                  <a:pt x="144" y="320"/>
                  <a:pt x="272" y="1408"/>
                  <a:pt x="288" y="1792"/>
                </a:cubicBezTo>
                <a:cubicBezTo>
                  <a:pt x="304" y="2176"/>
                  <a:pt x="248" y="2320"/>
                  <a:pt x="192" y="246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"/>
          <p:cNvSpPr/>
          <p:nvPr/>
        </p:nvSpPr>
        <p:spPr>
          <a:xfrm>
            <a:off x="3048120" y="2044800"/>
            <a:ext cx="2057400" cy="2298600"/>
          </a:xfrm>
          <a:custGeom>
            <a:avLst/>
            <a:gdLst/>
            <a:ahLst/>
            <a:rect l="l" t="t" r="r" b="b"/>
            <a:pathLst>
              <a:path w="1296" h="1448">
                <a:moveTo>
                  <a:pt x="1296" y="344"/>
                </a:moveTo>
                <a:cubicBezTo>
                  <a:pt x="1284" y="172"/>
                  <a:pt x="1272" y="0"/>
                  <a:pt x="1104" y="56"/>
                </a:cubicBezTo>
                <a:cubicBezTo>
                  <a:pt x="936" y="112"/>
                  <a:pt x="472" y="448"/>
                  <a:pt x="288" y="680"/>
                </a:cubicBezTo>
                <a:cubicBezTo>
                  <a:pt x="104" y="912"/>
                  <a:pt x="52" y="1180"/>
                  <a:pt x="0" y="144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1"/>
          <p:cNvSpPr/>
          <p:nvPr/>
        </p:nvSpPr>
        <p:spPr>
          <a:xfrm>
            <a:off x="3886200" y="266760"/>
            <a:ext cx="1447920" cy="2095560"/>
          </a:xfrm>
          <a:custGeom>
            <a:avLst/>
            <a:gdLst/>
            <a:ahLst/>
            <a:rect l="l" t="t" r="r" b="b"/>
            <a:pathLst>
              <a:path w="912" h="1320">
                <a:moveTo>
                  <a:pt x="912" y="1320"/>
                </a:moveTo>
                <a:cubicBezTo>
                  <a:pt x="840" y="948"/>
                  <a:pt x="768" y="576"/>
                  <a:pt x="672" y="360"/>
                </a:cubicBezTo>
                <a:cubicBezTo>
                  <a:pt x="576" y="144"/>
                  <a:pt x="448" y="0"/>
                  <a:pt x="336" y="24"/>
                </a:cubicBezTo>
                <a:cubicBezTo>
                  <a:pt x="224" y="48"/>
                  <a:pt x="112" y="276"/>
                  <a:pt x="0" y="50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2"/>
          <p:cNvSpPr/>
          <p:nvPr/>
        </p:nvSpPr>
        <p:spPr>
          <a:xfrm>
            <a:off x="5638680" y="-127080"/>
            <a:ext cx="546120" cy="2641680"/>
          </a:xfrm>
          <a:custGeom>
            <a:avLst/>
            <a:gdLst/>
            <a:ahLst/>
            <a:rect l="l" t="t" r="r" b="b"/>
            <a:pathLst>
              <a:path w="344" h="1664">
                <a:moveTo>
                  <a:pt x="0" y="1664"/>
                </a:moveTo>
                <a:cubicBezTo>
                  <a:pt x="116" y="1008"/>
                  <a:pt x="232" y="352"/>
                  <a:pt x="288" y="176"/>
                </a:cubicBezTo>
                <a:cubicBezTo>
                  <a:pt x="344" y="0"/>
                  <a:pt x="340" y="304"/>
                  <a:pt x="336" y="60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3"/>
          <p:cNvSpPr/>
          <p:nvPr/>
        </p:nvSpPr>
        <p:spPr>
          <a:xfrm>
            <a:off x="5562720" y="774720"/>
            <a:ext cx="2209680" cy="2197080"/>
          </a:xfrm>
          <a:custGeom>
            <a:avLst/>
            <a:gdLst/>
            <a:ahLst/>
            <a:rect l="l" t="t" r="r" b="b"/>
            <a:pathLst>
              <a:path w="1392" h="1384">
                <a:moveTo>
                  <a:pt x="0" y="1144"/>
                </a:moveTo>
                <a:cubicBezTo>
                  <a:pt x="196" y="572"/>
                  <a:pt x="392" y="0"/>
                  <a:pt x="624" y="40"/>
                </a:cubicBezTo>
                <a:cubicBezTo>
                  <a:pt x="856" y="80"/>
                  <a:pt x="1264" y="1160"/>
                  <a:pt x="1392" y="1384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4"/>
          <p:cNvSpPr/>
          <p:nvPr/>
        </p:nvSpPr>
        <p:spPr>
          <a:xfrm>
            <a:off x="3352680" y="711360"/>
            <a:ext cx="1905120" cy="1803240"/>
          </a:xfrm>
          <a:custGeom>
            <a:avLst/>
            <a:gdLst/>
            <a:ahLst/>
            <a:rect l="l" t="t" r="r" b="b"/>
            <a:pathLst>
              <a:path w="1200" h="1136">
                <a:moveTo>
                  <a:pt x="1200" y="1136"/>
                </a:moveTo>
                <a:cubicBezTo>
                  <a:pt x="1036" y="648"/>
                  <a:pt x="872" y="160"/>
                  <a:pt x="672" y="80"/>
                </a:cubicBezTo>
                <a:cubicBezTo>
                  <a:pt x="472" y="0"/>
                  <a:pt x="236" y="328"/>
                  <a:pt x="0" y="656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5"/>
          <p:cNvSpPr/>
          <p:nvPr/>
        </p:nvSpPr>
        <p:spPr>
          <a:xfrm>
            <a:off x="5562720" y="1231920"/>
            <a:ext cx="1904760" cy="3187800"/>
          </a:xfrm>
          <a:custGeom>
            <a:avLst/>
            <a:gdLst/>
            <a:ahLst/>
            <a:rect l="l" t="t" r="r" b="b"/>
            <a:pathLst>
              <a:path w="1200" h="2008">
                <a:moveTo>
                  <a:pt x="0" y="904"/>
                </a:moveTo>
                <a:cubicBezTo>
                  <a:pt x="140" y="452"/>
                  <a:pt x="280" y="0"/>
                  <a:pt x="480" y="184"/>
                </a:cubicBezTo>
                <a:cubicBezTo>
                  <a:pt x="680" y="368"/>
                  <a:pt x="940" y="1188"/>
                  <a:pt x="1200" y="2008"/>
                </a:cubicBezTo>
              </a:path>
            </a:pathLst>
          </a:custGeom>
          <a:noFill/>
          <a:ln cap="rnd" w="57240">
            <a:solidFill>
              <a:srgbClr val="00ff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57200" y="5346720"/>
            <a:ext cx="84582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TRƯỜNG THCS NGUYỄN TRÃ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GV : Nguyễn Thị Kim Vui</a:t>
            </a:r>
            <a:r>
              <a:rPr b="1" lang="en-US" sz="2000" spc="-1" strike="noStrike">
                <a:solidFill>
                  <a:srgbClr val="00ff00"/>
                </a:solidFill>
                <a:latin typeface=".VnTimeH"/>
              </a:rPr>
              <a:t>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57240" y="57240"/>
            <a:ext cx="9045360" cy="6800760"/>
          </a:xfrm>
          <a:prstGeom prst="rect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8"/>
          <p:cNvGrpSpPr/>
          <p:nvPr/>
        </p:nvGrpSpPr>
        <p:grpSpPr>
          <a:xfrm>
            <a:off x="0" y="3505320"/>
            <a:ext cx="7467480" cy="1752480"/>
            <a:chOff x="0" y="3505320"/>
            <a:chExt cx="7467480" cy="1752480"/>
          </a:xfrm>
        </p:grpSpPr>
        <p:sp>
          <p:nvSpPr>
            <p:cNvPr id="408" name="AutoShape 19"/>
            <p:cNvSpPr/>
            <p:nvPr/>
          </p:nvSpPr>
          <p:spPr>
            <a:xfrm>
              <a:off x="4572000" y="356400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20"/>
            <p:cNvGrpSpPr/>
            <p:nvPr/>
          </p:nvGrpSpPr>
          <p:grpSpPr>
            <a:xfrm>
              <a:off x="0" y="3505320"/>
              <a:ext cx="7467480" cy="1752480"/>
              <a:chOff x="0" y="3505320"/>
              <a:chExt cx="7467480" cy="1752480"/>
            </a:xfrm>
          </p:grpSpPr>
          <p:sp>
            <p:nvSpPr>
              <p:cNvPr id="410" name="AutoShape 21"/>
              <p:cNvSpPr/>
              <p:nvPr/>
            </p:nvSpPr>
            <p:spPr>
              <a:xfrm>
                <a:off x="6858000" y="3581280"/>
                <a:ext cx="609480" cy="228600"/>
              </a:xfrm>
              <a:prstGeom prst="irregularSeal2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22"/>
              <p:cNvSpPr/>
              <p:nvPr/>
            </p:nvSpPr>
            <p:spPr>
              <a:xfrm>
                <a:off x="0" y="3657600"/>
                <a:ext cx="533160" cy="380880"/>
              </a:xfrm>
              <a:prstGeom prst="irregularSeal1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23"/>
              <p:cNvSpPr/>
              <p:nvPr/>
            </p:nvSpPr>
            <p:spPr>
              <a:xfrm>
                <a:off x="3200400" y="4267080"/>
                <a:ext cx="380880" cy="914400"/>
              </a:xfrm>
              <a:prstGeom prst="irregularSeal1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AutoShape 24"/>
              <p:cNvSpPr/>
              <p:nvPr/>
            </p:nvSpPr>
            <p:spPr>
              <a:xfrm>
                <a:off x="2057400" y="3505320"/>
                <a:ext cx="457200" cy="609480"/>
              </a:xfrm>
              <a:prstGeom prst="irregularSeal1">
                <a:avLst/>
              </a:prstGeom>
              <a:noFill/>
              <a:ln w="381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25"/>
              <p:cNvSpPr/>
              <p:nvPr/>
            </p:nvSpPr>
            <p:spPr>
              <a:xfrm>
                <a:off x="4952880" y="4648320"/>
                <a:ext cx="533520" cy="609480"/>
              </a:xfrm>
              <a:prstGeom prst="irregularSeal1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AutoShape 26"/>
              <p:cNvSpPr/>
              <p:nvPr/>
            </p:nvSpPr>
            <p:spPr>
              <a:xfrm>
                <a:off x="6095880" y="4191120"/>
                <a:ext cx="762120" cy="380880"/>
              </a:xfrm>
              <a:prstGeom prst="irregularSeal2">
                <a:avLst/>
              </a:prstGeom>
              <a:noFill/>
              <a:ln w="381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6" name="Group 27"/>
          <p:cNvGrpSpPr/>
          <p:nvPr/>
        </p:nvGrpSpPr>
        <p:grpSpPr>
          <a:xfrm>
            <a:off x="304920" y="380880"/>
            <a:ext cx="8534160" cy="5791320"/>
            <a:chOff x="304920" y="380880"/>
            <a:chExt cx="8534160" cy="5791320"/>
          </a:xfrm>
        </p:grpSpPr>
        <p:sp>
          <p:nvSpPr>
            <p:cNvPr id="417" name="AutoShape 28"/>
            <p:cNvSpPr/>
            <p:nvPr/>
          </p:nvSpPr>
          <p:spPr>
            <a:xfrm>
              <a:off x="609480" y="1828800"/>
              <a:ext cx="533520" cy="685800"/>
            </a:xfrm>
            <a:prstGeom prst="irregularSeal2">
              <a:avLst/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9"/>
            <p:cNvSpPr/>
            <p:nvPr/>
          </p:nvSpPr>
          <p:spPr>
            <a:xfrm>
              <a:off x="8381880" y="1905120"/>
              <a:ext cx="2286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AutoShape 30"/>
            <p:cNvSpPr/>
            <p:nvPr/>
          </p:nvSpPr>
          <p:spPr>
            <a:xfrm>
              <a:off x="8610480" y="533520"/>
              <a:ext cx="22860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44" y="6172"/>
                  </a:lnTo>
                  <a:lnTo>
                    <a:pt x="8056" y="10000"/>
                  </a:lnTo>
                  <a:lnTo>
                    <a:pt x="5000" y="7630"/>
                  </a:lnTo>
                  <a:lnTo>
                    <a:pt x="1944" y="10000"/>
                  </a:lnTo>
                  <a:lnTo>
                    <a:pt x="3056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31"/>
            <p:cNvSpPr/>
            <p:nvPr/>
          </p:nvSpPr>
          <p:spPr>
            <a:xfrm>
              <a:off x="7162920" y="548640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32"/>
            <p:cNvSpPr/>
            <p:nvPr/>
          </p:nvSpPr>
          <p:spPr>
            <a:xfrm>
              <a:off x="609480" y="5562720"/>
              <a:ext cx="45720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10" y="6172"/>
                  </a:lnTo>
                  <a:lnTo>
                    <a:pt x="8090" y="10000"/>
                  </a:lnTo>
                  <a:lnTo>
                    <a:pt x="5000" y="7630"/>
                  </a:lnTo>
                  <a:lnTo>
                    <a:pt x="1910" y="10000"/>
                  </a:lnTo>
                  <a:lnTo>
                    <a:pt x="3090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33"/>
            <p:cNvSpPr/>
            <p:nvPr/>
          </p:nvSpPr>
          <p:spPr>
            <a:xfrm>
              <a:off x="1143000" y="3200400"/>
              <a:ext cx="6094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34"/>
            <p:cNvSpPr/>
            <p:nvPr/>
          </p:nvSpPr>
          <p:spPr>
            <a:xfrm>
              <a:off x="380880" y="457200"/>
              <a:ext cx="4572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35"/>
            <p:cNvSpPr/>
            <p:nvPr/>
          </p:nvSpPr>
          <p:spPr>
            <a:xfrm>
              <a:off x="304920" y="4495680"/>
              <a:ext cx="45720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19" y="3828"/>
                  </a:lnTo>
                  <a:lnTo>
                    <a:pt x="5000" y="0"/>
                  </a:lnTo>
                  <a:lnTo>
                    <a:pt x="6181" y="3828"/>
                  </a:lnTo>
                  <a:lnTo>
                    <a:pt x="10000" y="3828"/>
                  </a:lnTo>
                  <a:lnTo>
                    <a:pt x="6910" y="6172"/>
                  </a:lnTo>
                  <a:lnTo>
                    <a:pt x="8090" y="10000"/>
                  </a:lnTo>
                  <a:lnTo>
                    <a:pt x="5000" y="7630"/>
                  </a:lnTo>
                  <a:lnTo>
                    <a:pt x="1910" y="10000"/>
                  </a:lnTo>
                  <a:lnTo>
                    <a:pt x="3090" y="6172"/>
                  </a:lnTo>
                  <a:lnTo>
                    <a:pt x="0" y="3828"/>
                  </a:lnTo>
                  <a:close/>
                </a:path>
              </a:pathLst>
            </a:custGeom>
            <a:solidFill>
              <a:srgbClr val="99ff33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36"/>
            <p:cNvSpPr/>
            <p:nvPr/>
          </p:nvSpPr>
          <p:spPr>
            <a:xfrm>
              <a:off x="2057400" y="380880"/>
              <a:ext cx="533520" cy="685800"/>
            </a:xfrm>
            <a:prstGeom prst="irregularSeal2">
              <a:avLst/>
            </a:prstGeom>
            <a:solidFill>
              <a:srgbClr val="ff00ff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37"/>
            <p:cNvSpPr/>
            <p:nvPr/>
          </p:nvSpPr>
          <p:spPr>
            <a:xfrm>
              <a:off x="914400" y="1219320"/>
              <a:ext cx="4572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8"/>
          <p:cNvGrpSpPr/>
          <p:nvPr/>
        </p:nvGrpSpPr>
        <p:grpSpPr>
          <a:xfrm>
            <a:off x="762120" y="474840"/>
            <a:ext cx="7467480" cy="1752480"/>
            <a:chOff x="762120" y="474840"/>
            <a:chExt cx="7467480" cy="1752480"/>
          </a:xfrm>
        </p:grpSpPr>
        <p:sp>
          <p:nvSpPr>
            <p:cNvPr id="428" name="AutoShape 39"/>
            <p:cNvSpPr/>
            <p:nvPr/>
          </p:nvSpPr>
          <p:spPr>
            <a:xfrm>
              <a:off x="5334120" y="533520"/>
              <a:ext cx="3808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33" y="3828"/>
                  </a:lnTo>
                  <a:lnTo>
                    <a:pt x="5000" y="0"/>
                  </a:lnTo>
                  <a:lnTo>
                    <a:pt x="6167" y="3828"/>
                  </a:lnTo>
                  <a:lnTo>
                    <a:pt x="10000" y="3828"/>
                  </a:lnTo>
                  <a:lnTo>
                    <a:pt x="6917" y="6172"/>
                  </a:lnTo>
                  <a:lnTo>
                    <a:pt x="8083" y="10000"/>
                  </a:lnTo>
                  <a:lnTo>
                    <a:pt x="5000" y="7630"/>
                  </a:lnTo>
                  <a:lnTo>
                    <a:pt x="1917" y="10000"/>
                  </a:lnTo>
                  <a:lnTo>
                    <a:pt x="3083" y="6172"/>
                  </a:lnTo>
                  <a:lnTo>
                    <a:pt x="0" y="3828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0"/>
            <p:cNvGrpSpPr/>
            <p:nvPr/>
          </p:nvGrpSpPr>
          <p:grpSpPr>
            <a:xfrm>
              <a:off x="762120" y="474840"/>
              <a:ext cx="7467480" cy="1752480"/>
              <a:chOff x="762120" y="474840"/>
              <a:chExt cx="7467480" cy="1752480"/>
            </a:xfrm>
          </p:grpSpPr>
          <p:sp>
            <p:nvSpPr>
              <p:cNvPr id="430" name="AutoShape 41"/>
              <p:cNvSpPr/>
              <p:nvPr/>
            </p:nvSpPr>
            <p:spPr>
              <a:xfrm>
                <a:off x="7620120" y="550800"/>
                <a:ext cx="609480" cy="228600"/>
              </a:xfrm>
              <a:prstGeom prst="irregularSeal2">
                <a:avLst/>
              </a:pr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AutoShape 42"/>
              <p:cNvSpPr/>
              <p:nvPr/>
            </p:nvSpPr>
            <p:spPr>
              <a:xfrm>
                <a:off x="762120" y="627120"/>
                <a:ext cx="533160" cy="380880"/>
              </a:xfrm>
              <a:prstGeom prst="irregularSeal1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AutoShape 43"/>
              <p:cNvSpPr/>
              <p:nvPr/>
            </p:nvSpPr>
            <p:spPr>
              <a:xfrm>
                <a:off x="3962520" y="1236600"/>
                <a:ext cx="380880" cy="914400"/>
              </a:xfrm>
              <a:prstGeom prst="irregularSeal1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44"/>
              <p:cNvSpPr/>
              <p:nvPr/>
            </p:nvSpPr>
            <p:spPr>
              <a:xfrm>
                <a:off x="2819520" y="474840"/>
                <a:ext cx="457200" cy="609480"/>
              </a:xfrm>
              <a:prstGeom prst="irregularSeal1">
                <a:avLst/>
              </a:prstGeom>
              <a:noFill/>
              <a:ln w="381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AutoShape 45"/>
              <p:cNvSpPr/>
              <p:nvPr/>
            </p:nvSpPr>
            <p:spPr>
              <a:xfrm>
                <a:off x="5715000" y="1617840"/>
                <a:ext cx="533520" cy="609480"/>
              </a:xfrm>
              <a:prstGeom prst="irregularSeal1">
                <a:avLst/>
              </a:prstGeom>
              <a:noFill/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AutoShape 46"/>
              <p:cNvSpPr/>
              <p:nvPr/>
            </p:nvSpPr>
            <p:spPr>
              <a:xfrm>
                <a:off x="6858000" y="1160640"/>
                <a:ext cx="762120" cy="380880"/>
              </a:xfrm>
              <a:prstGeom prst="irregularSeal2">
                <a:avLst/>
              </a:prstGeom>
              <a:noFill/>
              <a:ln w="381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3341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7" name="TRACK12.WAV" descr=""/>
          <p:cNvPicPr/>
          <p:nvPr/>
        </p:nvPicPr>
        <p:blipFill>
          <a:blip r:embed="rId4"/>
          <a:stretch/>
        </p:blipFill>
        <p:spPr>
          <a:xfrm>
            <a:off x="8458200" y="2286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ows%20XP%20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3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3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3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3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3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3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4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4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4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9" descr="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1801800" y="709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I.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MỤC ĐÍCH YÊU CẦ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0"/>
          <p:cNvGrpSpPr/>
          <p:nvPr/>
        </p:nvGrpSpPr>
        <p:grpSpPr>
          <a:xfrm>
            <a:off x="2895480" y="1295280"/>
            <a:ext cx="4952160" cy="1447560"/>
            <a:chOff x="2895480" y="1295280"/>
            <a:chExt cx="4952160" cy="1447560"/>
          </a:xfrm>
        </p:grpSpPr>
        <p:grpSp>
          <p:nvGrpSpPr>
            <p:cNvPr id="448" name="Group 11"/>
            <p:cNvGrpSpPr/>
            <p:nvPr/>
          </p:nvGrpSpPr>
          <p:grpSpPr>
            <a:xfrm>
              <a:off x="2895480" y="1424160"/>
              <a:ext cx="4952160" cy="1318680"/>
              <a:chOff x="2895480" y="1424160"/>
              <a:chExt cx="4952160" cy="1318680"/>
            </a:xfrm>
          </p:grpSpPr>
          <p:sp>
            <p:nvSpPr>
              <p:cNvPr id="449" name="Oval 12"/>
              <p:cNvSpPr/>
              <p:nvPr/>
            </p:nvSpPr>
            <p:spPr>
              <a:xfrm>
                <a:off x="2949480" y="1466280"/>
                <a:ext cx="4898160" cy="127656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a4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Oval 13"/>
              <p:cNvSpPr/>
              <p:nvPr/>
            </p:nvSpPr>
            <p:spPr>
              <a:xfrm>
                <a:off x="2895480" y="1424160"/>
                <a:ext cx="4898160" cy="1276200"/>
              </a:xfrm>
              <a:prstGeom prst="ellipse">
                <a:avLst/>
              </a:prstGeom>
              <a:gradFill rotWithShape="0">
                <a:gsLst>
                  <a:gs pos="0">
                    <a:srgbClr val="8ed2d2"/>
                  </a:gs>
                  <a:gs pos="100000">
                    <a:srgbClr val="0099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Oval 14"/>
            <p:cNvSpPr/>
            <p:nvPr/>
          </p:nvSpPr>
          <p:spPr>
            <a:xfrm>
              <a:off x="3129120" y="1295280"/>
              <a:ext cx="4433760" cy="12124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3186720" y="1303920"/>
              <a:ext cx="4326120" cy="1180800"/>
            </a:xfrm>
            <a:prstGeom prst="ellipse">
              <a:avLst/>
            </a:prstGeom>
            <a:gradFill rotWithShape="0">
              <a:gsLst>
                <a:gs pos="0">
                  <a:srgbClr val="bbe0e3">
                    <a:alpha val="0"/>
                  </a:srgbClr>
                </a:gs>
                <a:gs pos="100000">
                  <a:srgbClr val="e7f4f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3231360" y="1314000"/>
              <a:ext cx="4118760" cy="1104480"/>
            </a:xfrm>
            <a:prstGeom prst="ellipse">
              <a:avLst/>
            </a:prstGeom>
            <a:gradFill rotWithShape="0">
              <a:gsLst>
                <a:gs pos="0">
                  <a:srgbClr val="94b1b4"/>
                </a:gs>
                <a:gs pos="100000">
                  <a:srgbClr val="bbe0e3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 rot="16200000">
              <a:off x="4819680" y="-240120"/>
              <a:ext cx="1096200" cy="425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>
                    <a:alpha val="38039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MỤC ĐÍC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9"/>
          <p:cNvGrpSpPr/>
          <p:nvPr/>
        </p:nvGrpSpPr>
        <p:grpSpPr>
          <a:xfrm>
            <a:off x="87480" y="2286000"/>
            <a:ext cx="3950640" cy="3525840"/>
            <a:chOff x="87480" y="2286000"/>
            <a:chExt cx="3950640" cy="3525840"/>
          </a:xfrm>
        </p:grpSpPr>
        <p:sp>
          <p:nvSpPr>
            <p:cNvPr id="456" name="AutoShape 5"/>
            <p:cNvSpPr/>
            <p:nvPr/>
          </p:nvSpPr>
          <p:spPr>
            <a:xfrm>
              <a:off x="87480" y="3144960"/>
              <a:ext cx="3809520" cy="2666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"/>
            <p:cNvSpPr/>
            <p:nvPr/>
          </p:nvSpPr>
          <p:spPr>
            <a:xfrm>
              <a:off x="3135240" y="2286000"/>
              <a:ext cx="902880" cy="124164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1241640"/>
                <a:gd name="textAreaBottom" fmla="*/ 1242000 h 1241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7979ff"/>
            </a:solidFill>
            <a:ln w="0">
              <a:solidFill>
                <a:srgbClr val="8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22"/>
            <p:cNvSpPr/>
            <p:nvPr/>
          </p:nvSpPr>
          <p:spPr>
            <a:xfrm>
              <a:off x="87480" y="3276720"/>
              <a:ext cx="3885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25"/>
          <p:cNvGrpSpPr/>
          <p:nvPr/>
        </p:nvGrpSpPr>
        <p:grpSpPr>
          <a:xfrm>
            <a:off x="5181480" y="2286000"/>
            <a:ext cx="3886200" cy="3581280"/>
            <a:chOff x="5181480" y="2286000"/>
            <a:chExt cx="3886200" cy="3581280"/>
          </a:xfrm>
        </p:grpSpPr>
        <p:sp>
          <p:nvSpPr>
            <p:cNvPr id="460" name="AutoShape 3"/>
            <p:cNvSpPr/>
            <p:nvPr/>
          </p:nvSpPr>
          <p:spPr>
            <a:xfrm>
              <a:off x="5181480" y="3200400"/>
              <a:ext cx="3886200" cy="26668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 flipH="1">
              <a:off x="6868440" y="2286000"/>
              <a:ext cx="903240" cy="1241280"/>
            </a:xfrm>
            <a:custGeom>
              <a:avLst/>
              <a:gdLst/>
              <a:ahLst/>
              <a:rect l="l" t="t" r="r" b="b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aedf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Rectangle 2"/>
          <p:cNvSpPr/>
          <p:nvPr/>
        </p:nvSpPr>
        <p:spPr>
          <a:xfrm>
            <a:off x="92160" y="3200400"/>
            <a:ext cx="380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hằm bồi dưỡng, bổ sung và nâng cao kiến thức cho học sinh giỏi của trường, phát huy tinh thần sáng tạo, tự học tự rèn luyện của các 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5291280" y="3581280"/>
            <a:ext cx="377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hằm chuẩn bị tốt cho kỳ thi HS giỏi cấp huyện, tỉnh trong thời gian tớ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92160" y="3240"/>
            <a:ext cx="92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BÁO CÁO CHUYÊN ĐỀ BỒI DƯỠNG H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5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AutoShape 2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9" descr="C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AutoShape 2"/>
          <p:cNvSpPr/>
          <p:nvPr/>
        </p:nvSpPr>
        <p:spPr>
          <a:xfrm rot="5400000">
            <a:off x="-2413080" y="1512360"/>
            <a:ext cx="4824360" cy="4770360"/>
          </a:xfrm>
          <a:custGeom>
            <a:avLst/>
            <a:gdLst>
              <a:gd name="textAreaLeft" fmla="*/ 89280 w 4824360"/>
              <a:gd name="textAreaRight" fmla="*/ 4735080 w 4824360"/>
              <a:gd name="textAreaTop" fmla="*/ 0 h 4770360"/>
              <a:gd name="textAreaBottom" fmla="*/ 3009960 h 4770360"/>
            </a:gdLst>
            <a:ahLst/>
            <a:rect l="textAreaLeft" t="textAreaTop" r="textAreaRight" b="textAreaBottom"/>
            <a:pathLst>
              <a:path w="21600" h="21600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lnTo>
                  <a:pt x="323" y="10641"/>
                </a:lnTo>
                <a:close/>
              </a:path>
            </a:pathLst>
          </a:custGeom>
          <a:gradFill rotWithShape="0">
            <a:gsLst>
              <a:gs pos="0">
                <a:srgbClr val="dbe0ed"/>
              </a:gs>
              <a:gs pos="100000">
                <a:srgbClr val="b0ba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/>
          <p:cNvSpPr/>
          <p:nvPr/>
        </p:nvSpPr>
        <p:spPr>
          <a:xfrm flipH="1" rot="5400000">
            <a:off x="-2016360" y="191844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2224080" y="4137120"/>
            <a:ext cx="6904080" cy="99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áo viên và học sinh thực hiện nghiêm túc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ống nhất kế hoạch đã được xây dựng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2203560" y="3005280"/>
            <a:ext cx="7010280" cy="952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e7f5c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Học sinh dự học lớp bồi dưỡ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hải đảm bảo chuyên c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6"/>
          <p:cNvGrpSpPr/>
          <p:nvPr/>
        </p:nvGrpSpPr>
        <p:grpSpPr>
          <a:xfrm>
            <a:off x="1143000" y="1676520"/>
            <a:ext cx="380880" cy="609480"/>
            <a:chOff x="1143000" y="1676520"/>
            <a:chExt cx="380880" cy="609480"/>
          </a:xfrm>
        </p:grpSpPr>
        <p:sp>
          <p:nvSpPr>
            <p:cNvPr id="478" name="Oval 7"/>
            <p:cNvSpPr/>
            <p:nvPr/>
          </p:nvSpPr>
          <p:spPr>
            <a:xfrm>
              <a:off x="1143000" y="17906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1164600" y="1812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1201680" y="16765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10"/>
            <p:cNvSpPr/>
            <p:nvPr/>
          </p:nvSpPr>
          <p:spPr>
            <a:xfrm>
              <a:off x="1201680" y="16765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1"/>
            <p:cNvSpPr/>
            <p:nvPr/>
          </p:nvSpPr>
          <p:spPr>
            <a:xfrm>
              <a:off x="1204560" y="16779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2"/>
            <p:cNvSpPr/>
            <p:nvPr/>
          </p:nvSpPr>
          <p:spPr>
            <a:xfrm>
              <a:off x="1203120" y="16779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20"/>
          <p:cNvGrpSpPr/>
          <p:nvPr/>
        </p:nvGrpSpPr>
        <p:grpSpPr>
          <a:xfrm>
            <a:off x="2133720" y="3352680"/>
            <a:ext cx="380880" cy="609840"/>
            <a:chOff x="2133720" y="3352680"/>
            <a:chExt cx="380880" cy="609840"/>
          </a:xfrm>
        </p:grpSpPr>
        <p:sp>
          <p:nvSpPr>
            <p:cNvPr id="485" name="Oval 21"/>
            <p:cNvSpPr/>
            <p:nvPr/>
          </p:nvSpPr>
          <p:spPr>
            <a:xfrm>
              <a:off x="2133720" y="3466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22"/>
            <p:cNvSpPr/>
            <p:nvPr/>
          </p:nvSpPr>
          <p:spPr>
            <a:xfrm>
              <a:off x="2155320" y="34884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3"/>
            <p:cNvSpPr/>
            <p:nvPr/>
          </p:nvSpPr>
          <p:spPr>
            <a:xfrm>
              <a:off x="2192400" y="33526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4"/>
            <p:cNvSpPr/>
            <p:nvPr/>
          </p:nvSpPr>
          <p:spPr>
            <a:xfrm>
              <a:off x="2192400" y="33526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5"/>
            <p:cNvSpPr/>
            <p:nvPr/>
          </p:nvSpPr>
          <p:spPr>
            <a:xfrm>
              <a:off x="2195280" y="33541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26"/>
            <p:cNvSpPr/>
            <p:nvPr/>
          </p:nvSpPr>
          <p:spPr>
            <a:xfrm>
              <a:off x="2193840" y="33541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1371600" y="5334120"/>
            <a:ext cx="380880" cy="609480"/>
            <a:chOff x="1371600" y="5334120"/>
            <a:chExt cx="380880" cy="609480"/>
          </a:xfrm>
        </p:grpSpPr>
        <p:sp>
          <p:nvSpPr>
            <p:cNvPr id="492" name="Oval 28"/>
            <p:cNvSpPr/>
            <p:nvPr/>
          </p:nvSpPr>
          <p:spPr>
            <a:xfrm>
              <a:off x="1371600" y="5448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29"/>
            <p:cNvSpPr/>
            <p:nvPr/>
          </p:nvSpPr>
          <p:spPr>
            <a:xfrm>
              <a:off x="1393200" y="54698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0"/>
            <p:cNvSpPr/>
            <p:nvPr/>
          </p:nvSpPr>
          <p:spPr>
            <a:xfrm>
              <a:off x="1430280" y="53341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31"/>
            <p:cNvSpPr/>
            <p:nvPr/>
          </p:nvSpPr>
          <p:spPr>
            <a:xfrm>
              <a:off x="1430280" y="5334120"/>
              <a:ext cx="184320" cy="6080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32"/>
            <p:cNvSpPr/>
            <p:nvPr/>
          </p:nvSpPr>
          <p:spPr>
            <a:xfrm>
              <a:off x="1433160" y="53355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3"/>
            <p:cNvSpPr/>
            <p:nvPr/>
          </p:nvSpPr>
          <p:spPr>
            <a:xfrm>
              <a:off x="1431720" y="5335560"/>
              <a:ext cx="258840" cy="6080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AutoShape 35"/>
          <p:cNvSpPr/>
          <p:nvPr/>
        </p:nvSpPr>
        <p:spPr>
          <a:xfrm flipH="1" rot="5400000">
            <a:off x="-2016360" y="1954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10744" y="10800"/>
                </a:lnTo>
                <a:close/>
              </a:path>
            </a:pathLst>
          </a:custGeom>
          <a:gradFill rotWithShape="0">
            <a:gsLst>
              <a:gs pos="0">
                <a:srgbClr val="e3ebff"/>
              </a:gs>
              <a:gs pos="100000">
                <a:srgbClr val="b8cc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0" y="2649600"/>
            <a:ext cx="1981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. Yêu cầ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457200" y="5867280"/>
            <a:ext cx="380880" cy="609840"/>
            <a:chOff x="457200" y="5867280"/>
            <a:chExt cx="380880" cy="609840"/>
          </a:xfrm>
        </p:grpSpPr>
        <p:sp>
          <p:nvSpPr>
            <p:cNvPr id="501" name="Oval 38"/>
            <p:cNvSpPr/>
            <p:nvPr/>
          </p:nvSpPr>
          <p:spPr>
            <a:xfrm>
              <a:off x="457200" y="59814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39"/>
            <p:cNvSpPr/>
            <p:nvPr/>
          </p:nvSpPr>
          <p:spPr>
            <a:xfrm>
              <a:off x="478800" y="60030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40"/>
            <p:cNvSpPr/>
            <p:nvPr/>
          </p:nvSpPr>
          <p:spPr>
            <a:xfrm>
              <a:off x="515880" y="5867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41"/>
            <p:cNvSpPr/>
            <p:nvPr/>
          </p:nvSpPr>
          <p:spPr>
            <a:xfrm>
              <a:off x="515880" y="5867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42"/>
            <p:cNvSpPr/>
            <p:nvPr/>
          </p:nvSpPr>
          <p:spPr>
            <a:xfrm>
              <a:off x="518760" y="5868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43"/>
            <p:cNvSpPr/>
            <p:nvPr/>
          </p:nvSpPr>
          <p:spPr>
            <a:xfrm>
              <a:off x="517320" y="5868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Group 44"/>
          <p:cNvGrpSpPr/>
          <p:nvPr/>
        </p:nvGrpSpPr>
        <p:grpSpPr>
          <a:xfrm>
            <a:off x="304920" y="1295280"/>
            <a:ext cx="380880" cy="609840"/>
            <a:chOff x="304920" y="1295280"/>
            <a:chExt cx="380880" cy="609840"/>
          </a:xfrm>
        </p:grpSpPr>
        <p:sp>
          <p:nvSpPr>
            <p:cNvPr id="508" name="Oval 45"/>
            <p:cNvSpPr/>
            <p:nvPr/>
          </p:nvSpPr>
          <p:spPr>
            <a:xfrm>
              <a:off x="304920" y="14094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46"/>
            <p:cNvSpPr/>
            <p:nvPr/>
          </p:nvSpPr>
          <p:spPr>
            <a:xfrm>
              <a:off x="326520" y="143100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Oval 47"/>
            <p:cNvSpPr/>
            <p:nvPr/>
          </p:nvSpPr>
          <p:spPr>
            <a:xfrm>
              <a:off x="363600" y="1295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99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Oval 48"/>
            <p:cNvSpPr/>
            <p:nvPr/>
          </p:nvSpPr>
          <p:spPr>
            <a:xfrm>
              <a:off x="363600" y="1295280"/>
              <a:ext cx="184320" cy="608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Oval 49"/>
            <p:cNvSpPr/>
            <p:nvPr/>
          </p:nvSpPr>
          <p:spPr>
            <a:xfrm>
              <a:off x="366480" y="1296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005353"/>
                </a:gs>
                <a:gs pos="50000">
                  <a:srgbClr val="009999"/>
                </a:gs>
                <a:gs pos="100000">
                  <a:srgbClr val="0053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Oval 50"/>
            <p:cNvSpPr/>
            <p:nvPr/>
          </p:nvSpPr>
          <p:spPr>
            <a:xfrm>
              <a:off x="365040" y="1296720"/>
              <a:ext cx="258840" cy="60840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AutoShape 4"/>
          <p:cNvSpPr/>
          <p:nvPr/>
        </p:nvSpPr>
        <p:spPr>
          <a:xfrm>
            <a:off x="1614600" y="5311800"/>
            <a:ext cx="7513560" cy="99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BGH theo dõi, động viên học sinh và gi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iên hoàn thành tốt kế hoạch đề 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1371600" y="1208160"/>
            <a:ext cx="7756560" cy="1120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b7e7ff"/>
              </a:gs>
            </a:gsLst>
            <a:lin ang="0"/>
          </a:gra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iáo viên được phân công lên lớp cần có kế hoạ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ương trình, sách tham khảo, sách nâng cao, đả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ảo tốt việc chuẩn bị dạy và họ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58"/>
          <p:cNvSpPr/>
          <p:nvPr/>
        </p:nvSpPr>
        <p:spPr>
          <a:xfrm>
            <a:off x="0" y="0"/>
            <a:ext cx="9144000" cy="554040"/>
          </a:xfrm>
          <a:prstGeom prst="rect">
            <a:avLst/>
          </a:prstGeom>
          <a:solidFill>
            <a:srgbClr val="afc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0"/>
          <p:cNvSpPr/>
          <p:nvPr/>
        </p:nvSpPr>
        <p:spPr>
          <a:xfrm>
            <a:off x="0" y="1066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92160" y="3240"/>
            <a:ext cx="920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0000"/>
                </a:solidFill>
                <a:latin typeface="Arial"/>
              </a:rPr>
              <a:t>BÁO CÁO CHUYÊN ĐỀ BỒI DƯỠNG H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"/>
          <p:cNvSpPr/>
          <p:nvPr/>
        </p:nvSpPr>
        <p:spPr>
          <a:xfrm>
            <a:off x="46080" y="789120"/>
            <a:ext cx="90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. ĐỐI TƯỢNG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Học sinh được giáo viên bộ môn phát hiện trong quá trình giảng dạy, trên cơ sở đó trường thành lập đội tuyển học sinh giỏi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 ngay từ đầu năm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lớp 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c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ủa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trườ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00ff"/>
                </a:solidFill>
                <a:latin typeface="Arial"/>
              </a:rPr>
              <a:t>III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. THỜI GIAN ÔN TẬP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: Thời gian ôn tập từ 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/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7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/201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8</a:t>
            </a:r>
            <a:r>
              <a:rPr b="1" lang="it-IT" sz="2400" spc="-1" strike="noStrike">
                <a:solidFill>
                  <a:srgbClr val="cc0066"/>
                </a:solidFill>
                <a:latin typeface="Arial"/>
              </a:rPr>
              <a:t> đến thời điểm thi học sinh giỏi cấp Tỉnh</a:t>
            </a:r>
            <a:r>
              <a:rPr b="1" lang="vi-VN" sz="2400" spc="-1" strike="noStrike">
                <a:solidFill>
                  <a:srgbClr val="cc0066"/>
                </a:solidFill>
                <a:latin typeface="Arial"/>
              </a:rPr>
              <a:t> vào buổi chiều thứ 3,4,5 hàng tuần (trong hè) và chiều thứ 7 hàng tuần (vào năm họ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446200"/>
                <a:gridCol w="6697800"/>
              </a:tblGrid>
              <a:tr h="4748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hời g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ông việ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49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Đầu năm học lớp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ọn học sinh giỏi và làm công tác tư tưở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904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uối T 5- T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oạn tài liệu ôn tậ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2236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ừ 1/7 – 1/8 (hè năm lớp 8), 3 buổi/ tuầ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1 “Các thí nghiệm của Menden”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 chuyên đề 1 để loại dần 2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716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- 1/8 – đầu năm họ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- Đầu năm học – giữa tháng 9, học chiều thứ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2 “NS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2 để loại dần 2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49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Giữa tháng 9 -tháng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3 “AD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3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0" y="34920"/>
          <a:ext cx="9144000" cy="2714760"/>
        </p:xfrm>
        <a:graphic>
          <a:graphicData uri="http://schemas.openxmlformats.org/drawingml/2006/table">
            <a:tbl>
              <a:tblPr/>
              <a:tblGrid>
                <a:gridCol w="2446200"/>
                <a:gridCol w="6697800"/>
              </a:tblGrid>
              <a:tr h="4208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hời g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ông việ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11,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4 “Biến dị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4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4132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Ôn luyện chuyên đề 5 “Môi trường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- Làm kiểm tra chuyên đề  5 để loại dần 1 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128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Tháng 2,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vi-VN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Ôn lí thuyết 6,7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2" name="Rectangle 2"/>
          <p:cNvSpPr/>
          <p:nvPr/>
        </p:nvSpPr>
        <p:spPr>
          <a:xfrm>
            <a:off x="0" y="30481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ff"/>
                </a:solidFill>
                <a:latin typeface="Arial"/>
              </a:rPr>
              <a:t>IV. NỘI DUNG</a:t>
            </a:r>
            <a:r>
              <a:rPr b="1" lang="vi-VN" sz="2800" spc="-1" strike="noStrike">
                <a:solidFill>
                  <a:srgbClr val="c00000"/>
                </a:solidFill>
                <a:latin typeface="Arial"/>
              </a:rPr>
              <a:t>: Tôi chia ra làm 5 chuyên đề như sau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A. CÁC THÍ NGHIỆM CỦA MENĐ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PHẦN 1. CÁCH GIẢI BÀI TOÁN</a:t>
            </a: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. Phương pháp giải bài toán thu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I. Phương pháp giải bài toán nghị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II.  Phương pháp giải bài toán trội không hoàn t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000000"/>
                </a:solidFill>
                <a:latin typeface="Arial"/>
              </a:rPr>
              <a:t>IV. Phương pháp giải bài toán lai hai cặp tính tr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PHẦN 2. BÀI TẬP VẬN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19080" y="1584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B. NHIỄM SẮC TH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C.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660066"/>
                </a:solidFill>
                <a:latin typeface="Arial"/>
              </a:rPr>
              <a:t>1.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2. 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3. Nhân đôi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4. Sao m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5.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D. BÀI TẬP</a:t>
            </a:r>
            <a:r>
              <a:rPr b="1" lang="en-US" sz="2800" spc="-1" strike="noStrike" u="sng">
                <a:solidFill>
                  <a:srgbClr val="008000"/>
                </a:solidFill>
                <a:uFillTx/>
                <a:latin typeface="Arial"/>
              </a:rPr>
              <a:t> DI TRUYỀN NGƯỜ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1. Nhận diện bài toán thuộc DT liên kết với giới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- Nếu gen nằm trên NST giới tí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- Tính trạng phân bố không đồng đều giữa cá thể đực và cá thể c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2. Cách giải: Làm tương tự như các quy luật di truyền khá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660066"/>
                </a:solidFill>
                <a:latin typeface="Arial"/>
              </a:rPr>
              <a:t>3. Bài tập vận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008000"/>
                </a:solidFill>
                <a:uFillTx/>
                <a:latin typeface="Arial"/>
              </a:rPr>
              <a:t>E. SINH VẬT VÀ MÔI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43000" y="1403280"/>
            <a:ext cx="86104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6000"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99"/>
                </a:solidFill>
                <a:latin typeface=".VnAristote"/>
              </a:rPr>
              <a:t>Chóc c¸c thÇy c« m¹nh khoÎ, c«ng t¸c tèt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h14"/>
          <p:cNvPicPr/>
          <p:nvPr/>
        </p:nvPicPr>
        <p:blipFill>
          <a:blip r:embed="rId1"/>
          <a:stretch/>
        </p:blipFill>
        <p:spPr>
          <a:xfrm rot="17576400">
            <a:off x="636480" y="5616000"/>
            <a:ext cx="834840" cy="14097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h14"/>
          <p:cNvPicPr/>
          <p:nvPr/>
        </p:nvPicPr>
        <p:blipFill>
          <a:blip r:embed="rId2"/>
          <a:stretch/>
        </p:blipFill>
        <p:spPr>
          <a:xfrm rot="16055400">
            <a:off x="1845360" y="5686560"/>
            <a:ext cx="834840" cy="1408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h14"/>
          <p:cNvPicPr/>
          <p:nvPr/>
        </p:nvPicPr>
        <p:blipFill>
          <a:blip r:embed="rId3"/>
          <a:stretch/>
        </p:blipFill>
        <p:spPr>
          <a:xfrm rot="20627400">
            <a:off x="87480" y="4757760"/>
            <a:ext cx="839520" cy="14018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h14"/>
          <p:cNvPicPr/>
          <p:nvPr/>
        </p:nvPicPr>
        <p:blipFill>
          <a:blip r:embed="rId4"/>
          <a:stretch/>
        </p:blipFill>
        <p:spPr>
          <a:xfrm rot="3709200">
            <a:off x="444960" y="-344880"/>
            <a:ext cx="839880" cy="1870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h14"/>
          <p:cNvPicPr/>
          <p:nvPr/>
        </p:nvPicPr>
        <p:blipFill>
          <a:blip r:embed="rId5"/>
          <a:stretch/>
        </p:blipFill>
        <p:spPr>
          <a:xfrm rot="5400000">
            <a:off x="7390800" y="-456480"/>
            <a:ext cx="839520" cy="19051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5" descr="h14"/>
          <p:cNvPicPr/>
          <p:nvPr/>
        </p:nvPicPr>
        <p:blipFill>
          <a:blip r:embed="rId6"/>
          <a:stretch/>
        </p:blipFill>
        <p:spPr>
          <a:xfrm rot="4998000">
            <a:off x="6148080" y="-280800"/>
            <a:ext cx="839880" cy="14018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h14"/>
          <p:cNvPicPr/>
          <p:nvPr/>
        </p:nvPicPr>
        <p:blipFill>
          <a:blip r:embed="rId7"/>
          <a:stretch/>
        </p:blipFill>
        <p:spPr>
          <a:xfrm rot="5400000">
            <a:off x="1904040" y="-684720"/>
            <a:ext cx="83988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5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oi%20dat%20nuoc%20goi%20t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5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5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5" nodeType="after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9:56:44Z</dcterms:created>
  <dc:creator>Nguyen Tan Thanh</dc:creator>
  <dc:description/>
  <dc:language>en-US</dc:language>
  <cp:lastModifiedBy>Administrator</cp:lastModifiedBy>
  <dcterms:modified xsi:type="dcterms:W3CDTF">2019-08-01T14:14:57Z</dcterms:modified>
  <cp:revision>105</cp:revision>
  <dc:subject/>
  <dc:title>CHƯƠNG III: CON NGƯỜI, DÂN SỐ VÀ MÔI TRƯỜNG</dc:title>
</cp:coreProperties>
</file>